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3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00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00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BMG template_PPT_master_UK 12aug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671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Joris van de Klundert</a:t>
            </a:r>
            <a:br>
              <a:rPr sz="2800"/>
            </a:b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Department of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 Health Services Management &amp; Operations</a:t>
            </a: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38080" y="560088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ealth Care Operation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Maximizing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Quantification on the basis of evidenc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alence per quarter years 2008 and 2009 based on Dutch insurer data on health service consumption (evidence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sts per state per quarter from sam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ition probabilities per quarter based on sam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uality of life data per state from literature (systematic reviews, level 1a evide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scussion 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997360"/>
            <a:ext cx="77724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umber of Dutch elderly (65+) is growing (and is expected to continue to grow until 20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ady state never happens (incidence is growing, dementia prevalence is gro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ansition probabilities are ‘memoriles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al costs for the Netherlands +/- 2 billion euros per quar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emory-rich model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3645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r cohort in in stat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in quarter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, describe the distribution over the states in quarter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+1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+2,…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 the transition probabilities between states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uarter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+j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, to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+j+1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Alternative model: retrospective cohort model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8" name=""/>
          <p:cNvSpPr/>
          <p:nvPr/>
        </p:nvSpPr>
        <p:spPr>
          <a:xfrm>
            <a:off x="1274760" y="701640"/>
            <a:ext cx="379584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492280"/>
          <a:ext cx="7445160" cy="3942000"/>
        </p:xfrm>
        <a:graphic>
          <a:graphicData uri="http://schemas.openxmlformats.org/drawingml/2006/table">
            <a:tbl>
              <a:tblPr/>
              <a:tblGrid>
                <a:gridCol w="1726920"/>
                <a:gridCol w="1596960"/>
                <a:gridCol w="814680"/>
                <a:gridCol w="823680"/>
                <a:gridCol w="1362240"/>
                <a:gridCol w="1120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atients in health st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dement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ld Cognitive Declin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ld Dement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vere Dement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2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7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3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8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0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5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5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5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2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7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1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9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9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9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Base line data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sease stag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st per Quar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aly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 dementi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204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d Cognitive Declin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6576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.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d Dementi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4951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vere  Dementi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0737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.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3933720"/>
            <a:ext cx="15112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vidence on interven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tervention: improve life style at middle age: all of physical activity, social contacts, cognitive stimulation, mediteranean diet are additively effective (Patterson 2009, Polidori 2010, Middleton &amp; Yaffe 2009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tervention: Support Caregiver while patient is still at home (Orie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tervention: Install a case manager (Verkade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tervention:Psychological/Psychiatric Therapy (Herrmans, 2008, Robinson et al.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5877000"/>
            <a:ext cx="7772400" cy="850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w are these interventions model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Lifestyle intervention: prevention at middle age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7" name=""/>
          <p:cNvSpPr/>
          <p:nvPr/>
        </p:nvSpPr>
        <p:spPr>
          <a:xfrm>
            <a:off x="1274760" y="701640"/>
            <a:ext cx="379584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30480" y="2421000"/>
          <a:ext cx="6683040" cy="3773520"/>
        </p:xfrm>
        <a:graphic>
          <a:graphicData uri="http://schemas.openxmlformats.org/drawingml/2006/table">
            <a:tbl>
              <a:tblPr/>
              <a:tblGrid>
                <a:gridCol w="1550880"/>
                <a:gridCol w="1433520"/>
                <a:gridCol w="730080"/>
                <a:gridCol w="739800"/>
                <a:gridCol w="1222560"/>
                <a:gridCol w="10062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atients in health st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zo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gn. Ver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w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erled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2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3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6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5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0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8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8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1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7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6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5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9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5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6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Intervention: Supporting the caregiver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0" name=""/>
          <p:cNvSpPr/>
          <p:nvPr/>
        </p:nvSpPr>
        <p:spPr>
          <a:xfrm>
            <a:off x="1274760" y="1035000"/>
            <a:ext cx="379584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46120" y="2565360"/>
          <a:ext cx="6251400" cy="3105360"/>
        </p:xfrm>
        <a:graphic>
          <a:graphicData uri="http://schemas.openxmlformats.org/drawingml/2006/table">
            <a:tbl>
              <a:tblPr/>
              <a:tblGrid>
                <a:gridCol w="1450800"/>
                <a:gridCol w="1339920"/>
                <a:gridCol w="684360"/>
                <a:gridCol w="690480"/>
                <a:gridCol w="1144440"/>
                <a:gridCol w="94140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atients in health st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zo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gn. Ver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w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erled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2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7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6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6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4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0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6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4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8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1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1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2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6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Intervention: Case managemen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3" name=""/>
          <p:cNvSpPr/>
          <p:nvPr/>
        </p:nvSpPr>
        <p:spPr>
          <a:xfrm>
            <a:off x="1274760" y="906480"/>
            <a:ext cx="379584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42920" y="2349360"/>
          <a:ext cx="6467400" cy="3363840"/>
        </p:xfrm>
        <a:graphic>
          <a:graphicData uri="http://schemas.openxmlformats.org/drawingml/2006/table">
            <a:tbl>
              <a:tblPr/>
              <a:tblGrid>
                <a:gridCol w="1500120"/>
                <a:gridCol w="1387440"/>
                <a:gridCol w="708120"/>
                <a:gridCol w="714600"/>
                <a:gridCol w="1184040"/>
                <a:gridCol w="97308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atients in health st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zo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gn. Ver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w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erled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2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7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4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6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8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3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7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8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7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8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Cost effectivenes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festyle intervention at middle age: 0,05 Qalys p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port Caregiver: unclear (because of unusual cost data?) – point for discussion quality of life, and health service consumption of careg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ase management: same costs, higher quality of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Health Care Qualities (Institute of Medicine)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tient centerednes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care that is respectful of and responsive to  individual patient preferences, needs and values, and ensuring that patient values guide all clinical dec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1371240"/>
            <a:ext cx="8459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Bold"/>
              </a:rPr>
              <a:t>Simulation is often used as an intelligent evaluation too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uld we use discrete event modeling for the same purpo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hat would be valid reasons to use discrete event modeling instead of a Markov Mod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mension 3: Equit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rgan do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557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old"/>
              </a:rPr>
              <a:t>But first the cost effectiveness (NHS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dicative cost of maintaining a patient with end-stage renal failure on renal replacement therapy (dialysis) is £17,500 per patient per year for a patient on peritoneal dialysis and £35,000 per patient per year for a patient on hospital haemodialysi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re are over 37,800 patients with end-stage renal failure in the UK. Nearly 21,000 are on dialysis, whilst the remainder have a transplant. Of those on dialysis, 76% are on haemodialysis and 24% on peritoneal dialysi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verage cost of dialysis is £30,800 per patient per year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% of the NHS budget is spent on kidney failure servic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dicative cost of a kidney transplant (including induction therapy but excluding NHSBT costs) is £17,000 per patient per transplan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mmuno-suppression required by a patient with a transplant costs £5,000 per patient per year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cost benefit of kidney transplantation compared to dialysis over a period of ten years (the median transplant survival time) is £241,000 or £24,100 per year for each year that the patient has a functioning transplanted kidne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st effectiveness is better for younger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st effectiveness is better for healthier patients (and there are waiting l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st effectiveness is better for exact tissue type (HLA) matches. ( O can give to anyone, receive only from O, AB can give only to AB, receive from anyon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ro americans have typically different tissue types and relatively fewer matching don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Kidney donation I: cadaveric kidney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nited Network of Organ Sharing (UNOS)  point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king recipients per donor organ that becomes available based on a weighte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it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k in the waiting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ssue type ( many points when no HLA type misma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o) Panel reactive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e (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≤ 5 years of age, ≤ 11 years of 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Objective functions of allocation model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ize sum of expected QALYs gained over all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irwise Equitable: First come first transplan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upwise equitable: Outcome discrepancies between groups of patients are elimin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an waiting time (to transplan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kelihood of transplantation (otherwise dea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olution by Zenios et al.(OR. 2000)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rmulate the problem using a continuous state space model for health state transitions for each of the groups (depending on whether a person in the group receives an organ or not) (dynamic model, using differential equ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51160" y="4130640"/>
            <a:ext cx="44402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ynamic model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769080" cy="4157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6920" y="2133720"/>
            <a:ext cx="1513080" cy="574560"/>
          </a:xfrm>
          <a:prstGeom prst="wedgeRectCallout">
            <a:avLst>
              <a:gd name="adj1" fmla="val 15055"/>
              <a:gd name="adj2" fmla="val 812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umber of patients of type k on waiting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205000"/>
            <a:ext cx="1152360" cy="285840"/>
          </a:xfrm>
          <a:prstGeom prst="wedgeRectCallout">
            <a:avLst>
              <a:gd name="adj1" fmla="val -79337"/>
              <a:gd name="adj2" fmla="val 162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1989000"/>
            <a:ext cx="1152360" cy="285840"/>
          </a:xfrm>
          <a:prstGeom prst="wedgeRectCallout">
            <a:avLst>
              <a:gd name="adj1" fmla="val -29750"/>
              <a:gd name="adj2" fmla="val 22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ew arri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35640" y="2133720"/>
            <a:ext cx="1297080" cy="574560"/>
          </a:xfrm>
          <a:prstGeom prst="wedgeRectCallout">
            <a:avLst>
              <a:gd name="adj1" fmla="val -116953"/>
              <a:gd name="adj2" fmla="val 74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ate of type k receiving from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4221000"/>
            <a:ext cx="1513080" cy="1008360"/>
          </a:xfrm>
          <a:prstGeom prst="wedgeRectCallout">
            <a:avLst>
              <a:gd name="adj1" fmla="val -85259"/>
              <a:gd name="adj2" fmla="val -651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ate of type k returning to waiting list after having received from j after graft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3213000"/>
            <a:ext cx="1152360" cy="285840"/>
          </a:xfrm>
          <a:prstGeom prst="wedgeRectCallout">
            <a:avLst>
              <a:gd name="adj1" fmla="val -104958"/>
              <a:gd name="adj2" fmla="val 347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iting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91640" y="5516640"/>
            <a:ext cx="1152360" cy="503280"/>
          </a:xfrm>
          <a:prstGeom prst="wedgeRectCallout">
            <a:avLst>
              <a:gd name="adj1" fmla="val -122314"/>
              <a:gd name="adj2" fmla="val 610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unctioning g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640" y="227628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AL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iting time in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lant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bability in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5799240" cy="857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1844640"/>
            <a:ext cx="1368360" cy="285840"/>
          </a:xfrm>
          <a:prstGeom prst="wedgeRectCallout">
            <a:avLst>
              <a:gd name="adj1" fmla="val -136657"/>
              <a:gd name="adj2" fmla="val 19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QOL per class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780000" y="3500280"/>
            <a:ext cx="5184720" cy="1247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851280" y="5445000"/>
            <a:ext cx="4932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olution method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tretch/>
        </p:blipFill>
        <p:spPr>
          <a:xfrm>
            <a:off x="2195640" y="2627280"/>
            <a:ext cx="4163760" cy="1171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35640" y="1844640"/>
            <a:ext cx="1297080" cy="574560"/>
          </a:xfrm>
          <a:prstGeom prst="wedgeRectCallout">
            <a:avLst>
              <a:gd name="adj1" fmla="val -143388"/>
              <a:gd name="adj2" fmla="val 76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ate of type k receiving from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458136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asic policy: Take first come first served treated probabilities as basis and iteratively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mension 1:  effectivenes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ealth Outcomes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the health of an individual, group of people or population which is attributable to an intervention or series of interv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linical Outcomes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events that occur as a result of disease or treatment (death, HbA1c decrease, bli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unctional Outcomes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 result of care that is meaningful and practical to the health service use (is optimistic, can live at home, clear vis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istic outcom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tient self-assessment of the impact of disease or treatment on their lives and well-being (e.g., satisfaction, quality of lif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3214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4468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2108160"/>
            <a:ext cx="4896000" cy="285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627280" y="5229360"/>
            <a:ext cx="63374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Kidney donation part II: live donor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cause of lengthy waiting lists, many patients bring there own donors. Sometimes, they cannot be helped because of incompat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lution: Kidney Paired Donation (KPD) exchange for (patient/donor) pairs (51 occurrences in US in 2005 – 438 in NL since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4653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221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458136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08640"/>
            <a:ext cx="1008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124000" y="4292640"/>
            <a:ext cx="216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4365720"/>
            <a:ext cx="576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45100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52308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4726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530208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42940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4654440"/>
            <a:ext cx="216000" cy="71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4438800"/>
            <a:ext cx="576360" cy="9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1280" y="45100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07280" y="52308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99280" y="47260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72360" y="530208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42940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1280" y="4581360"/>
            <a:ext cx="1008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67640" y="4438800"/>
            <a:ext cx="576360" cy="9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458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Optimization solution (Segev et al. 2005)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ding a maximum cardinality matching in a graph (Edmonds 1965, Blossom algorith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provement over UNOS like policy: matched number of patients improves from +/- 40% to +/- 4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ected yearly cost reduction of KPD  versus dialysis of &gt; 100.000 USD (depending on blood type,  cost reduction over desensitization: +/- 30.000 US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ional US cost saving potential for pool of 4000 patients estimated at 750m USD per an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ore deterministic pairing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 matching is pareto efficient, if it is not properly included as a subset of any other matc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7345440" cy="2055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8210520" cy="416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71640" y="5877000"/>
            <a:ext cx="7772400" cy="850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ny maximum cardinality matchings may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Priority orders, matchings and mechanisms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on-negative func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→ R+ is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ority func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it is increasing in priority, i.e. if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i +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3860640"/>
            <a:ext cx="777240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ching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as priority over matching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hene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nl-NL" sz="2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Microsoft Sans Serif"/>
              </a:rPr>
              <a:t>contain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M’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 a subset, 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M’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ffer in only one patient, i.e.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M’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, M’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}, for som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, j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 &lt; j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Priority mechanism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7417080" cy="87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258920" y="5661000"/>
            <a:ext cx="7416720" cy="625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258920" y="2349360"/>
            <a:ext cx="72928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Pair graph decomposi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set of all pai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nl-NL" sz="20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set of all pairs which are unmatched in some maxima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nl-NL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set of all pairs which are matched in every maxima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ching and adjacent to at least one element of N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nl-NL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dd component: graph component with odd number of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 component: graph component with even number of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6678720" cy="26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ffectivenes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intervention is said to be effective if the expected health value of rest of lif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fectiveness is dependent on patient conditions, and typically measured for a well defined group of service u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∑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Cambria Math"/>
              </a:rPr>
              <a:t>t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 E(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QALY(t,g))/(1+r)</a:t>
            </a:r>
            <a:r>
              <a:rPr b="0" i="1" lang="nl-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fectiveness are based on averages (average quality of life), not on individuals (who score the quality of li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plied utalitarian calculus is deb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ecompositon Lemma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705800" cy="4098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42920" y="6080040"/>
            <a:ext cx="7772400" cy="7779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tients in small odd components have smaller probabilities of being matched, e.g. patient O, donor 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What about equity? (Roth et al. JET 2005)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ind a solution mechanism that yields probabilities of being matched which are as equitable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7920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Positioning Ambulance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347840" y="2060640"/>
            <a:ext cx="6446880" cy="1998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28760" y="4581360"/>
            <a:ext cx="648648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42920" y="2211480"/>
            <a:ext cx="51357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Locating ambulances at the sattelit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994040" y="1989000"/>
            <a:ext cx="3659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Total dispersion and response time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16000" y="1932120"/>
            <a:ext cx="57610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665520" cy="479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572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Cost effectiveness (1969)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597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How is that for effectiveness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33" name="Rectangle 3" descr=""/>
          <p:cNvPicPr/>
          <p:nvPr/>
        </p:nvPicPr>
        <p:blipFill>
          <a:blip r:embed="rId1"/>
          <a:stretch/>
        </p:blipFill>
        <p:spPr>
          <a:xfrm>
            <a:off x="900000" y="2238480"/>
            <a:ext cx="8064720" cy="1739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7848720" cy="2524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47640" y="6453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K Department of Health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vidence? From the UK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36520" y="2997360"/>
            <a:ext cx="68709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Cost effectiveness = QALY/</a:t>
            </a:r>
            <a:r>
              <a:rPr b="0" lang="nl-NL" sz="3200" spc="-1" strike="noStrike">
                <a:solidFill>
                  <a:srgbClr val="000000"/>
                </a:solidFill>
                <a:latin typeface="Arial Bold"/>
                <a:ea typeface="Arial"/>
              </a:rPr>
              <a:t>€</a:t>
            </a: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20500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14972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5672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407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721680" y="26233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00000" y="2060640"/>
            <a:ext cx="7704360" cy="396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…</a:t>
            </a: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Australia (integrating rural and urban systems)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777080" cy="2143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77708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How can equity be modeled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vidence based Operations Research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ypically mathematical theorems and proofs are derived for models which don’t fit the complex reality of diseases and health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ffectiveness must be demonstrated in practice: empirical evidence 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Evidence based operation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ementia Stages of Diseas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900000" y="549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3573360"/>
            <a:ext cx="1873440" cy="115092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8" y="0"/>
                </a:lnTo>
                <a:lnTo>
                  <a:pt x="21600" y="10800"/>
                </a:lnTo>
                <a:lnTo>
                  <a:pt x="154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3573360"/>
            <a:ext cx="2160720" cy="11509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g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c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3573360"/>
            <a:ext cx="2160720" cy="11509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12000" y="3573360"/>
            <a:ext cx="2160360" cy="115092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ev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12000" y="3573360"/>
            <a:ext cx="1332000" cy="1150920"/>
          </a:xfrm>
          <a:custGeom>
            <a:avLst/>
            <a:gdLst>
              <a:gd name="textAreaLeft" fmla="*/ 0 w 1332000"/>
              <a:gd name="textAreaRight" fmla="*/ 1332360 w 1332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18" y="0"/>
                </a:lnTo>
                <a:lnTo>
                  <a:pt x="21600" y="10800"/>
                </a:lnTo>
                <a:lnTo>
                  <a:pt x="12718" y="21600"/>
                </a:lnTo>
                <a:lnTo>
                  <a:pt x="0" y="21600"/>
                </a:lnTo>
                <a:lnTo>
                  <a:pt x="8882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30920" y="2308320"/>
            <a:ext cx="63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= The incidence is the number of new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ed cases during a specific time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0560" y="5157720"/>
            <a:ext cx="72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alence = The number of cases alive on a certain d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141720"/>
            <a:ext cx="14436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5013360"/>
            <a:ext cx="5473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arkov Model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932120" y="2349360"/>
            <a:ext cx="5279400" cy="3791160"/>
            <a:chOff x="1932120" y="2349360"/>
            <a:chExt cx="5279400" cy="3791160"/>
          </a:xfrm>
        </p:grpSpPr>
        <p:sp>
          <p:nvSpPr>
            <p:cNvPr id="72" name=""/>
            <p:cNvSpPr/>
            <p:nvPr/>
          </p:nvSpPr>
          <p:spPr>
            <a:xfrm>
              <a:off x="1932120" y="3836880"/>
              <a:ext cx="95976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No dement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44120" y="5324760"/>
              <a:ext cx="95976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vere dement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79760" y="3213000"/>
              <a:ext cx="95976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ment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5800" y="2349360"/>
              <a:ext cx="123408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ld Cognitiv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l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51760" y="3764880"/>
              <a:ext cx="95976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891880" y="3069000"/>
              <a:ext cx="767880" cy="12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79760" y="3117600"/>
              <a:ext cx="9576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56120" y="4028760"/>
              <a:ext cx="5756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15880" y="4508640"/>
              <a:ext cx="52776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75880" y="2877120"/>
              <a:ext cx="191988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92000" y="3789000"/>
              <a:ext cx="95976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891880" y="4268520"/>
              <a:ext cx="33598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891880" y="3789000"/>
              <a:ext cx="1583640" cy="52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1880" y="4317120"/>
              <a:ext cx="2399760" cy="11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43880" y="3165120"/>
              <a:ext cx="134388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747880" y="3069720"/>
              <a:ext cx="732960" cy="86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2747520" y="4556880"/>
              <a:ext cx="2495880" cy="1103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91520" y="3692880"/>
              <a:ext cx="1487880" cy="47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4475520" y="3069360"/>
              <a:ext cx="143640" cy="191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Eigenvector = stable prevalence distribution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03280" y="2349360"/>
          <a:ext cx="6913800" cy="3500640"/>
        </p:xfrm>
        <a:graphic>
          <a:graphicData uri="http://schemas.openxmlformats.org/drawingml/2006/table">
            <a:tbl>
              <a:tblPr/>
              <a:tblGrid>
                <a:gridCol w="987480"/>
                <a:gridCol w="987480"/>
                <a:gridCol w="987480"/>
                <a:gridCol w="987480"/>
                <a:gridCol w="988920"/>
                <a:gridCol w="987480"/>
                <a:gridCol w="98748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c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c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c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c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826920" y="1989000"/>
            <a:ext cx="719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2997360"/>
            <a:ext cx="9352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40720" y="2133720"/>
            <a:ext cx="7189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2133720"/>
            <a:ext cx="719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80360" y="3068640"/>
            <a:ext cx="934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675640" y="3068640"/>
            <a:ext cx="934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mbria Math"/>
              </a:rPr>
              <a:t>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2492280"/>
            <a:ext cx="136692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</a:t>
            </a:r>
            <a:r>
              <a:rPr b="0" lang="nl-NL" sz="1400" spc="-1" strike="noStrike" baseline="-25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</a:t>
            </a:r>
            <a:r>
              <a:rPr b="0" lang="nl-NL" sz="1400" spc="-1" strike="noStrike" baseline="-25000">
                <a:solidFill>
                  <a:srgbClr val="000000"/>
                </a:solidFill>
                <a:latin typeface="Times New Roman"/>
              </a:rPr>
              <a:t>m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</a:t>
            </a:r>
            <a:r>
              <a:rPr b="0" lang="nl-NL" sz="1400" spc="-1" strike="noStrike" baseline="-25000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</a:t>
            </a:r>
            <a:r>
              <a:rPr b="0" lang="nl-NL" sz="1400" spc="-1" strike="noStrike" baseline="-25000">
                <a:solidFill>
                  <a:srgbClr val="000000"/>
                </a:solidFill>
                <a:latin typeface="Times New Roman"/>
              </a:rPr>
              <a:t>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 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Times New Roman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9640" y="2492280"/>
            <a:ext cx="136692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</a:t>
            </a:r>
            <a:r>
              <a:rPr b="0" lang="nl-NL" sz="1400" spc="-1" strike="noStrike" baseline="-25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</a:t>
            </a:r>
            <a:r>
              <a:rPr b="0" lang="nl-NL" sz="1400" spc="-1" strike="noStrike" baseline="-25000">
                <a:solidFill>
                  <a:srgbClr val="000000"/>
                </a:solidFill>
                <a:latin typeface="Times New Roman"/>
              </a:rPr>
              <a:t>m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</a:t>
            </a:r>
            <a:r>
              <a:rPr b="0" lang="nl-NL" sz="1400" spc="-1" strike="noStrike" baseline="-25000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</a:t>
            </a:r>
            <a:r>
              <a:rPr b="0" lang="nl-NL" sz="1400" spc="-1" strike="noStrike" baseline="-25000">
                <a:solidFill>
                  <a:srgbClr val="000000"/>
                </a:solidFill>
                <a:latin typeface="Times New Roman"/>
              </a:rPr>
              <a:t>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rev 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Times New Roman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6:45:25Z</dcterms:created>
  <dc:creator>Prismant</dc:creator>
  <dc:description/>
  <dc:language>en-US</dc:language>
  <cp:lastModifiedBy>vandeklundert</cp:lastModifiedBy>
  <dcterms:modified xsi:type="dcterms:W3CDTF">2012-04-02T07:07:35Z</dcterms:modified>
  <cp:revision>23</cp:revision>
  <dc:subject/>
  <dc:title>Dia 1</dc:title>
</cp:coreProperties>
</file>