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598-F413-4A8E-87F8-7B667A005B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disch Spectrum Twente, Centre for Mamma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5FD-B268-4F90-B9BB-307A4BC4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B07-75E4-4DA8-AB1B-EF86D4EA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emstelling (uitdiep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rouwen vijf jaar 2x per j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2CE-8246-4354-B152-9B1B0FE4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te tum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leine tum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ymfeklieren bes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el ang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inig ang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delen no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5AB-F1C9-461B-8DA7-803B843A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mme chir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itleggen dat Timon patienttevredenheid heeft geda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FCF-70C0-4F64-9243-AD55481A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eftijd. lymfe klier status. tumorgroot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e. frequ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 zijn kosten. wat is effectivite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el in de literatuur gedoken (75 pap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2CD-56BC-4943-87EC-CA32B887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eftijd. lymfe klier status. tumorgroot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e. frequ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 zijn kosten. wat is effectivite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el in de literatuur gedoken (75 pap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3E9-5050-40C7-90CF-6D3200CD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atje va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ke patient heeft twee eigenschappen: status borst 1 en status borst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ke borst kan gezond zijn (0). een tumor hebben gehad (1) en een terugkeer van de tumor hebben gehad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states beinvloeden het risico op metast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D8DC-7B86-44CC-A76B-01510CAB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nalytical form for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ious to get all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off between living a number of years in their current health state, or living a reduced number of years in full heal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942A-D92A-4CAA-9D73-78749CCC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im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ential proced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-ratio uitleg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orbeeld van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consults groter doordat 1e consult na operatie wordt meeget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C307-63E7-421F-815A-D45CEDE5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uitleggen 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DE91-69BC-4646-8F12-9475F75E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es mode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3107-7AC1-4D87-A11E-ECFA0779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e van besparingen uitleg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imte in capaciteit voor groeiend patientenaa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 realiseer me dat ik mijn afstudeeronderwerp klinisch. bedrijfsmatig en met de ratio benaderd he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 betekent echter niet dat ik me niet terdege realiseer dat borstkanker voor patient en haar omgeving een emotieel zeer beladen diagnose is .. en altijd zal blijv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1E09-0DFE-4B46-BE5C-0B76B456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e van besparingen uitleg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imte in capaciteit voor groeiend patientenaa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 realiseer me dat ik mijn afstudeeronderwerp klinisch. bedrijfsmatig en met de ratio benaderd he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 betekent echter niet dat ik me niet terdege realiseer dat borstkanker voor patient en haar omgeving een emotieel zeer beladen diagnose is .. en altijd zal blijv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FDA-2826-46E0-84B4-3FCD163A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e van besparingen uitleg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imte in capaciteit voor groeiend patientenaa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 realiseer me dat ik mijn afstudeeronderwerp klinisch. bedrijfsmatig en met de ratio benaderd he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 betekent echter niet dat ik me niet terdege realiseer dat borstkanker voor patient en haar omgeving een emotieel zeer beladen diagnose is .. en altijd zal blijv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0DFD-4C15-444D-9CE8-DC9C56C0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86A-3F5D-4EAC-B6A5-C0A0737F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9C1-74D2-4B24-A1BF-E44E2FF0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590D-AC34-4294-8E9F-AF406A38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t te lang: zonde van de tijd en moe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t te kort: risico dat terugkerende tumoren later worden ontde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252-52CA-46FD-88A3-EC56FC6F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 van 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6E1-A46C-4168-A47B-714FD545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llins: 38 studies into effectiveness of 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5AC-7FF2-4B47-A75E-1D8804C8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llins: 38 studies into effectiveness of follow-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DE8-73CF-4407-BAE4-0767E31BE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uit het oogpunt van het ziekenh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jdens dit colloquium 4 vrouwen gediagnostic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5D31-1671-4557-BAE5-5BD3F5A3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602-78D1-47E6-9092-7A6DE2FE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9BA-0CBA-4ED8-87CE-09B391A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99E-0A97-47ED-A0F5-96F4E90A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646-2E9D-4068-8C96-22D2F7B8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86E-9450-4A99-9ABB-DC865B6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DD-54C8-49B2-B8D7-EFE37B81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01D-8C80-49EB-A640-4E3090E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6EE-F0DA-401C-8C8C-BAEB31DA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C4C-CB6F-4A17-BAE1-46124EF3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5E6-197F-4573-AD52-0EA35BB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A74-A5DD-489A-BB09-E9CE616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042-7F1A-48C2-BE03-3F304819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1B12-7AEC-4E3C-B3A7-839AA9B132CB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391475_4738.jpg"/>
          <p:cNvPicPr/>
          <p:nvPr/>
        </p:nvPicPr>
        <p:blipFill>
          <a:blip r:embed="rId2"/>
          <a:srcRect l="19136" t="0" r="1851" b="0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9" name="Tekstvak 4"/>
          <p:cNvSpPr/>
          <p:nvPr/>
        </p:nvSpPr>
        <p:spPr>
          <a:xfrm>
            <a:off x="3851280" y="836640"/>
            <a:ext cx="5257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Individualize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breast cancer follow-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Cost-effectiven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of various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e van Elteren, M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win Hans, Associate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w.hans@utwente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6000" y="5460840"/>
            <a:ext cx="31320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 gives patients a false feeling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 may cause stress and anxiety fo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(increasing) workload for surge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Afbeelding 5" descr="ribbon copy.gif"/>
          <p:cNvPicPr/>
          <p:nvPr/>
        </p:nvPicPr>
        <p:blipFill>
          <a:blip r:embed="rId2"/>
          <a:stretch/>
        </p:blipFill>
        <p:spPr>
          <a:xfrm>
            <a:off x="7765920" y="214200"/>
            <a:ext cx="1160640" cy="16430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7"/>
          <p:cNvSpPr/>
          <p:nvPr/>
        </p:nvSpPr>
        <p:spPr>
          <a:xfrm>
            <a:off x="714240" y="714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el 1"/>
          <p:cNvSpPr/>
          <p:nvPr/>
        </p:nvSpPr>
        <p:spPr>
          <a:xfrm>
            <a:off x="343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rawbacks of follow-up (F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 patients receive the same follow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ijdelijke aanduiding voor inhoud 4" descr="blauwepionnen.gif"/>
          <p:cNvPicPr/>
          <p:nvPr/>
        </p:nvPicPr>
        <p:blipFill>
          <a:blip r:embed="rId2"/>
          <a:stretch/>
        </p:blipFill>
        <p:spPr>
          <a:xfrm>
            <a:off x="1865160" y="1428840"/>
            <a:ext cx="54136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9400" y="5734080"/>
            <a:ext cx="829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guideline: 5 years, 2x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ot evidence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not all patients are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6" descr="333182_9216 copy.jpg"/>
          <p:cNvPicPr/>
          <p:nvPr/>
        </p:nvPicPr>
        <p:blipFill>
          <a:blip r:embed="rId2"/>
          <a:srcRect l="3749" t="16321" r="6714" b="6483"/>
          <a:stretch/>
        </p:blipFill>
        <p:spPr>
          <a:xfrm>
            <a:off x="-1440" y="973080"/>
            <a:ext cx="9144000" cy="5911920"/>
          </a:xfrm>
          <a:prstGeom prst="rect">
            <a:avLst/>
          </a:prstGeom>
          <a:ln w="0">
            <a:noFill/>
          </a:ln>
        </p:spPr>
      </p:pic>
      <p:sp>
        <p:nvSpPr>
          <p:cNvPr id="93" name="Titel 1"/>
          <p:cNvSpPr/>
          <p:nvPr/>
        </p:nvSpPr>
        <p:spPr>
          <a:xfrm>
            <a:off x="1357200" y="150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22760" y="5045040"/>
            <a:ext cx="35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o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nfected 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xie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ected advantages of individualiz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928880"/>
            <a:ext cx="781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treatment of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er work pressure for the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cost-effective is individualized follow-up and what is the workload impact for the Centre for Mammaca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pital point-of-view (this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’s point-of-view (paralle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Afbeelding 4" descr="Untitled-2bulb.gif"/>
          <p:cNvPicPr/>
          <p:nvPr/>
        </p:nvPicPr>
        <p:blipFill>
          <a:blip r:embed="rId2"/>
          <a:stretch/>
        </p:blipFill>
        <p:spPr>
          <a:xfrm rot="1015800">
            <a:off x="6900840" y="1060560"/>
            <a:ext cx="18432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search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500120"/>
            <a:ext cx="87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 patien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 follow-up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breast cancer health state transition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ulate follow-up programs in DES mode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 cost-effec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Afbeelding 4" descr="bouten.gif"/>
          <p:cNvPicPr/>
          <p:nvPr/>
        </p:nvPicPr>
        <p:blipFill>
          <a:blip r:embed="rId2"/>
          <a:stretch/>
        </p:blipFill>
        <p:spPr>
          <a:xfrm>
            <a:off x="0" y="4699080"/>
            <a:ext cx="3643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tient groups and follow-up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499760"/>
            <a:ext cx="8856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 grou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0 categ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ased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lt;35, 35-40,…, 70-75, &gt;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 status (negative, 1-3 positive, &gt;3 posi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mor size (0.1-1.0; 1.1-2.0; 2.1-3.0; &gt;3.0 c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progra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pr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ased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 (1, 3, or 5 yea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(1 or 2 annual vis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480" y="-7164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Health state transition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200" y="1609560"/>
          <a:ext cx="8929800" cy="491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" y="1609560"/>
                    <a:ext cx="89298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ta for health state transi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8920" y="124596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 state transi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patient-speci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data: distribution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currenc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ation until tran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from various sour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-based decision making tools for hc profess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uvant! (www.adjuvantonline.or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TR! (Sanghan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erature (a.o. Eng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3; Ga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rehensive Cancer Centre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ata for health state transi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24596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Life weights obtained by Lidgr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the time-trade-off method (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nly transition influenced by follow-up is the risk of metast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6840" y="-2736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st-effectiveness analysis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8920" y="124596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st-effectiveness of a FU progr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ra consults needed in order to gain one additional QALY, compared to the least intensive FU program (1y, 1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rete event simulation of the health state transition model for many patients &amp; FU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Afbeelding 5" descr="ribbon copy.gif"/>
          <p:cNvPicPr/>
          <p:nvPr/>
        </p:nvPicPr>
        <p:blipFill>
          <a:blip r:embed="rId2"/>
          <a:stretch/>
        </p:blipFill>
        <p:spPr>
          <a:xfrm>
            <a:off x="5580000" y="1989000"/>
            <a:ext cx="2238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iscrete Event Simulation mod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nomatix Plant Simulation 7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ulation of 150,000 patients per patient group, per follow-up program (5% err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 life expectancy and number of con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e costs and effectiveness of follow-up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9" descr="aaUntitled-2.gif"/>
          <p:cNvPicPr/>
          <p:nvPr/>
        </p:nvPicPr>
        <p:blipFill>
          <a:blip r:embed="rId2"/>
          <a:stretch/>
        </p:blipFill>
        <p:spPr>
          <a:xfrm>
            <a:off x="571680" y="4357800"/>
            <a:ext cx="3000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sults after ±200M pati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results for sample patient 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e 40-44, lymph node status 1-3, tumor size 2.1-3.0 c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Afbeelding 5" descr="Unxxtitled-4.gif"/>
          <p:cNvPicPr/>
          <p:nvPr/>
        </p:nvPicPr>
        <p:blipFill>
          <a:blip r:embed="rId2"/>
          <a:stretch/>
        </p:blipFill>
        <p:spPr>
          <a:xfrm>
            <a:off x="0" y="4429080"/>
            <a:ext cx="2052720" cy="26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606760" y="2781360"/>
          <a:ext cx="6286320" cy="2679480"/>
        </p:xfrm>
        <a:graphic>
          <a:graphicData uri="http://schemas.openxmlformats.org/drawingml/2006/table">
            <a:tbl>
              <a:tblPr/>
              <a:tblGrid>
                <a:gridCol w="1761840"/>
                <a:gridCol w="1420920"/>
                <a:gridCol w="1847880"/>
                <a:gridCol w="1255680"/>
              </a:tblGrid>
              <a:tr h="57348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Con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-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y: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y: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y: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y: 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y: 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51000"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y: 2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 w="5760">
                      <a:solidFill>
                        <a:srgbClr val="7ba0cd"/>
                      </a:solidFill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  <a:tc>
                  <a:txBody>
                    <a:bodyPr lIns="100440" rIns="1004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440" marR="100440">
                    <a:lnL>
                      <a:noFill/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806640" y="5985000"/>
            <a:ext cx="50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cost-eff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ith CE-threshold =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88567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ith CE-threshold = 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8856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ith CE-threshold =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28520" y="1268280"/>
            <a:ext cx="88362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orkload imp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168560"/>
          <a:ext cx="8858160" cy="5341680"/>
        </p:xfrm>
        <a:graphic>
          <a:graphicData uri="http://schemas.openxmlformats.org/drawingml/2006/table">
            <a:tbl>
              <a:tblPr/>
              <a:tblGrid>
                <a:gridCol w="5113440"/>
                <a:gridCol w="2016000"/>
                <a:gridCol w="1728720"/>
              </a:tblGrid>
              <a:tr h="12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ow-up-according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7ba0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con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7ba0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7ba0cd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guidel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y, 2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or all patien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04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guidelines &amp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y, 1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s w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mor size: 0.1-1.0 &amp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positive lymph no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04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,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guidelines &amp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y, 1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or patients age &gt; 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04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lised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-threshold: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04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ized follow-up work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al follow-up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s with good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s &gt; 70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vings up to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ing threshold is up to policy m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ect patient p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Afbeelding 5" descr="ssUntitled-5.gif"/>
          <p:cNvPicPr/>
          <p:nvPr/>
        </p:nvPicPr>
        <p:blipFill>
          <a:blip r:embed="rId2"/>
          <a:stretch/>
        </p:blipFill>
        <p:spPr>
          <a:xfrm>
            <a:off x="428760" y="4846680"/>
            <a:ext cx="2571480" cy="201132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6" descr="ribbon copy.gif"/>
          <p:cNvPicPr/>
          <p:nvPr/>
        </p:nvPicPr>
        <p:blipFill>
          <a:blip r:embed="rId3"/>
          <a:stretch/>
        </p:blipFill>
        <p:spPr>
          <a:xfrm>
            <a:off x="7623000" y="285840"/>
            <a:ext cx="1160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urther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lytical model development using Markov Decision Theory (co-work Nelly Litv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simulation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nline decision support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 into physical, psychological and social adverse needs of patients shows that patients prefer long and intensive follow-up by speci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me methodology, other types of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Afbeelding 5" descr="ssUntitled-5.gif"/>
          <p:cNvPicPr/>
          <p:nvPr/>
        </p:nvPicPr>
        <p:blipFill>
          <a:blip r:embed="rId2"/>
          <a:stretch/>
        </p:blipFill>
        <p:spPr>
          <a:xfrm>
            <a:off x="7020000" y="5281560"/>
            <a:ext cx="2016000" cy="157644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6" descr="ribbon copy.gif"/>
          <p:cNvPicPr/>
          <p:nvPr/>
        </p:nvPicPr>
        <p:blipFill>
          <a:blip r:embed="rId3"/>
          <a:stretch/>
        </p:blipFill>
        <p:spPr>
          <a:xfrm>
            <a:off x="7875720" y="115920"/>
            <a:ext cx="1160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Afbeelding 3" descr="qqUntitled-6.gif"/>
          <p:cNvPicPr/>
          <p:nvPr/>
        </p:nvPicPr>
        <p:blipFill>
          <a:blip r:embed="rId2"/>
          <a:stretch/>
        </p:blipFill>
        <p:spPr>
          <a:xfrm>
            <a:off x="2805120" y="1143000"/>
            <a:ext cx="6338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Titel 1"/>
          <p:cNvSpPr/>
          <p:nvPr/>
        </p:nvSpPr>
        <p:spPr>
          <a:xfrm>
            <a:off x="343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-auth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e for Mammacare, MST Ensche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ost Klaase, MD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rehensive Cancer Cent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bine Siesling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ity of Twe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o van der Wegen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lly Litvak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arten IJzerman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14216" r="8710" b="1821"/>
          <a:stretch/>
        </p:blipFill>
        <p:spPr>
          <a:xfrm>
            <a:off x="7236000" y="3429000"/>
            <a:ext cx="1512720" cy="43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873440" cy="90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56360" y="4653000"/>
            <a:ext cx="27446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507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idence: 1 in 9 fe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200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2000 new patien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400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ary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tectomy or breast conserving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bined with radio &amp;/ chemo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llow-up after primary treatment for breast canc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68280"/>
            <a:ext cx="85075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ims of follow-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r check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recurrence (local, second prim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amination, mammography, X-ray, bl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primary and adjuvant therap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+ quality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 data for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9280" y="10954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st cancer can recur in three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a-la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ath from breast cancer i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ant metast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e.g. bone, lung, li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tastases are caused by a tu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Diagram 6" descr=""/>
          <p:cNvPicPr/>
          <p:nvPr/>
        </p:nvPicPr>
        <p:blipFill>
          <a:blip r:embed="rId2"/>
          <a:stretch/>
        </p:blipFill>
        <p:spPr>
          <a:xfrm>
            <a:off x="2554200" y="3306600"/>
            <a:ext cx="3962520" cy="2060640"/>
          </a:xfrm>
          <a:prstGeom prst="rect">
            <a:avLst/>
          </a:prstGeom>
          <a:ln w="0">
            <a:noFill/>
          </a:ln>
        </p:spPr>
      </p:pic>
      <p:sp>
        <p:nvSpPr>
          <p:cNvPr id="65" name="Tekstvak 8"/>
          <p:cNvSpPr/>
          <p:nvPr/>
        </p:nvSpPr>
        <p:spPr>
          <a:xfrm>
            <a:off x="574560" y="4068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vak 9"/>
          <p:cNvSpPr/>
          <p:nvPr/>
        </p:nvSpPr>
        <p:spPr>
          <a:xfrm>
            <a:off x="574560" y="52815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gram 7" descr=""/>
          <p:cNvPicPr/>
          <p:nvPr/>
        </p:nvPicPr>
        <p:blipFill>
          <a:blip r:embed="rId3"/>
          <a:stretch/>
        </p:blipFill>
        <p:spPr>
          <a:xfrm>
            <a:off x="2560680" y="4284720"/>
            <a:ext cx="6272280" cy="2511360"/>
          </a:xfrm>
          <a:prstGeom prst="rect">
            <a:avLst/>
          </a:prstGeom>
          <a:ln w="0">
            <a:noFill/>
          </a:ln>
        </p:spPr>
      </p:pic>
      <p:sp>
        <p:nvSpPr>
          <p:cNvPr id="68" name="Titel 1"/>
          <p:cNvSpPr/>
          <p:nvPr/>
        </p:nvSpPr>
        <p:spPr>
          <a:xfrm>
            <a:off x="343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portance of follow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37080" y="6149880"/>
            <a:ext cx="92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rly detection of recur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s risk of metast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fbeelding 5" descr="ribbon copy.gif"/>
          <p:cNvPicPr/>
          <p:nvPr/>
        </p:nvPicPr>
        <p:blipFill>
          <a:blip r:embed="rId4"/>
          <a:stretch/>
        </p:blipFill>
        <p:spPr>
          <a:xfrm>
            <a:off x="7765920" y="214200"/>
            <a:ext cx="11606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8920" y="184428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sk of metastases from primary tumor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ffected by follow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women detect recurrence themselv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llow-up takes pl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-up may only influence survival when recurrences are detec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Afbeelding 5" descr="ribbon copy.gif"/>
          <p:cNvPicPr/>
          <p:nvPr/>
        </p:nvPicPr>
        <p:blipFill>
          <a:blip r:embed="rId2"/>
          <a:stretch/>
        </p:blipFill>
        <p:spPr>
          <a:xfrm>
            <a:off x="7765920" y="189000"/>
            <a:ext cx="1160640" cy="1643040"/>
          </a:xfrm>
          <a:prstGeom prst="rect">
            <a:avLst/>
          </a:prstGeom>
          <a:ln w="0">
            <a:noFill/>
          </a:ln>
        </p:spPr>
      </p:pic>
      <p:sp>
        <p:nvSpPr>
          <p:cNvPr id="73" name="Tekstvak 7"/>
          <p:cNvSpPr/>
          <p:nvPr/>
        </p:nvSpPr>
        <p:spPr>
          <a:xfrm>
            <a:off x="714240" y="714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el 1"/>
          <p:cNvSpPr/>
          <p:nvPr/>
        </p:nvSpPr>
        <p:spPr>
          <a:xfrm>
            <a:off x="343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(In-)Effectiveness of follow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i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2004) and many oth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re is no scientific evidence that justifi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nsi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follow-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OL, recurrence detection, surviv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nority of the recurrences is foun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ymptomatic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of women who do get diagnosed earlier during a follow-up visit does not increase significan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5" descr="ribbon copy.gif"/>
          <p:cNvPicPr/>
          <p:nvPr/>
        </p:nvPicPr>
        <p:blipFill>
          <a:blip r:embed="rId2"/>
          <a:stretch/>
        </p:blipFill>
        <p:spPr>
          <a:xfrm>
            <a:off x="7765920" y="189000"/>
            <a:ext cx="1160640" cy="1643040"/>
          </a:xfrm>
          <a:prstGeom prst="rect">
            <a:avLst/>
          </a:prstGeom>
          <a:ln w="0">
            <a:noFill/>
          </a:ln>
        </p:spPr>
      </p:pic>
      <p:sp>
        <p:nvSpPr>
          <p:cNvPr id="77" name="Tekstvak 7"/>
          <p:cNvSpPr/>
          <p:nvPr/>
        </p:nvSpPr>
        <p:spPr>
          <a:xfrm>
            <a:off x="714240" y="714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el 1"/>
          <p:cNvSpPr/>
          <p:nvPr/>
        </p:nvSpPr>
        <p:spPr>
          <a:xfrm>
            <a:off x="3430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(In-)Effectiveness of follow-up (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el 1" descr=""/>
          <p:cNvPicPr/>
          <p:nvPr/>
        </p:nvPicPr>
        <p:blipFill>
          <a:blip r:embed="rId2"/>
          <a:stretch/>
        </p:blipFill>
        <p:spPr>
          <a:xfrm>
            <a:off x="73080" y="-6480"/>
            <a:ext cx="8448480" cy="230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092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tter treatments, increased life expect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ing age of th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Afbeelding 5" descr="ribbon copy.gif"/>
          <p:cNvPicPr/>
          <p:nvPr/>
        </p:nvPicPr>
        <p:blipFill>
          <a:blip r:embed="rId3"/>
          <a:stretch/>
        </p:blipFill>
        <p:spPr>
          <a:xfrm>
            <a:off x="7765920" y="214200"/>
            <a:ext cx="1160640" cy="1643040"/>
          </a:xfrm>
          <a:prstGeom prst="rect">
            <a:avLst/>
          </a:prstGeom>
          <a:ln w="0">
            <a:noFill/>
          </a:ln>
        </p:spPr>
      </p:pic>
      <p:sp>
        <p:nvSpPr>
          <p:cNvPr id="82" name="Tekstvak 7"/>
          <p:cNvSpPr/>
          <p:nvPr/>
        </p:nvSpPr>
        <p:spPr>
          <a:xfrm>
            <a:off x="714240" y="714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7:40:30Z</dcterms:created>
  <dc:creator>Jesse van Elteren</dc:creator>
  <dc:description/>
  <dc:language>en-US</dc:language>
  <cp:lastModifiedBy>Erwin</cp:lastModifiedBy>
  <dcterms:modified xsi:type="dcterms:W3CDTF">2010-04-19T08:34:17Z</dcterms:modified>
  <cp:revision>198</cp:revision>
  <dc:subject/>
  <dc:title>Dia 1</dc:title>
</cp:coreProperties>
</file>