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CAC-6A2E-4CD9-A98B-609F57D6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002-B7B8-403E-B3C4-654BFD2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D7E-E1C2-4744-BC95-05EB9AC2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4A0-5C57-4924-845F-1B23B767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23A-2E1F-4967-9E2E-288B92E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F66-C245-4532-922F-374867C6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D60-694E-4757-A380-35BF79D1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BC1-B189-43C9-8A7D-B5920FCC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C59-791D-46A3-9DB1-089E6D5C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C54-C1C3-48D1-BB04-55D1FD19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FB3-92AA-4904-B3C8-2B2E9A42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60A-7C6C-4013-95A9-291A5911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7" descr="BMG template_PPT_page_UK 12aug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10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94600" y="54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0CB2-5311-4F9D-8961-CD7AA2224D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5" descr="BMG template_PPT_master_UK 12aug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671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Joris van de Klundert</a:t>
            </a:r>
            <a:br>
              <a:rPr sz="2800"/>
            </a:b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Department of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 Health Services Management &amp; Operations</a:t>
            </a: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560088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ealth Care Operation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uman Resource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IPP and improvements of SIPP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125360"/>
            <a:ext cx="7632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t is well known (Green, Kolesar 2001) that the decomposition approach of SIPP which uses a number of subsequent stationary problems can yield poor solu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omaly: system capacity lags behin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Lag SIPP remedies this behavior. It shifts demand ahe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re is much on going work in queueing theory to better estimate human resource capacity (e.g.  Ko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source capacity is determined using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mand models which consider demand as an exogenous process, and model e.g, as an arrival process. This approach requirs maximum flexibility, and maximum capacity for a prespecified service rate. Examples: emergency rooms, ambulance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planning, the tasks that need to be executed are derived from the planned work. The required resource capacity is then deduced from the tasks. Examples: Surgery departments, rehabilitation cen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fixed roster is given. If demand is indeed completely elective, capacity utilization can be maximum. Examples: nursing in elderly h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hifting emergency demand to elective demand enables better utilization of Human Resource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on, pro-active servicess, rather than respons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Deriving a roster from capacity requirements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r each period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, there is a demand for personnel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cost of a roster task which starts in period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nd lasts upto and including period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quals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.t.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 :i≤p≤j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≥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or all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Towards a min cost flow problem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  1  0  1  1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0  0  1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1  0  0 ) x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≥      (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0 )   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1  0  0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  1  0  1  1 -1  0   0  0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0  0  1  0 -1   0  0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1  0  0  0  0  -1  0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≥      (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0 )   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1  0  0  0  0   0 -1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  0  0  0  0  0  0   0  0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ubtract row i from row i+1, for i = n-1,…1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1  0  1  1 -1  0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 1  0  0  1  0 -1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 1  1  0  0  0  0  -1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≥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0 )   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 1  1  0  0  0  0   0 -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0  0  0  0  0  0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1  0  1  1 -1  0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 0  0 -1  0  1 -1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0  1  0 -1  0  1  -1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≥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-2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0  0  0  0  0  0   1 -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1 -1  -1  0  0  0  0   0 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021360"/>
            <a:ext cx="554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ws are nodes, columns are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Arcs in the min cost flow representa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ery  column has zero’s, a 1, and below the 1, a -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sum of the right hans sides equals 0: flow 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 cost flow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393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93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93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8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38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443280" y="407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76000" y="407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131640" y="407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787640" y="407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343320"/>
            <a:ext cx="3168720" cy="804960"/>
          </a:xfrm>
          <a:custGeom>
            <a:avLst/>
            <a:gdLst/>
            <a:ahLst/>
            <a:rect l="l" t="t" r="r" b="b"/>
            <a:pathLst>
              <a:path w="1996" h="462">
                <a:moveTo>
                  <a:pt x="0" y="462"/>
                </a:moveTo>
                <a:cubicBezTo>
                  <a:pt x="309" y="239"/>
                  <a:pt x="619" y="16"/>
                  <a:pt x="952" y="8"/>
                </a:cubicBezTo>
                <a:cubicBezTo>
                  <a:pt x="1285" y="0"/>
                  <a:pt x="1822" y="349"/>
                  <a:pt x="1996" y="4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3705120"/>
            <a:ext cx="1511280" cy="443160"/>
          </a:xfrm>
          <a:custGeom>
            <a:avLst/>
            <a:gdLst/>
            <a:ahLst/>
            <a:rect l="l" t="t" r="r" b="b"/>
            <a:pathLst>
              <a:path w="952" h="279">
                <a:moveTo>
                  <a:pt x="0" y="279"/>
                </a:moveTo>
                <a:cubicBezTo>
                  <a:pt x="192" y="146"/>
                  <a:pt x="385" y="14"/>
                  <a:pt x="544" y="7"/>
                </a:cubicBezTo>
                <a:cubicBezTo>
                  <a:pt x="703" y="0"/>
                  <a:pt x="884" y="196"/>
                  <a:pt x="952" y="2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3343320"/>
            <a:ext cx="4968720" cy="733320"/>
          </a:xfrm>
          <a:custGeom>
            <a:avLst/>
            <a:gdLst/>
            <a:ahLst/>
            <a:rect l="l" t="t" r="r" b="b"/>
            <a:pathLst>
              <a:path w="3130" h="462">
                <a:moveTo>
                  <a:pt x="0" y="462"/>
                </a:moveTo>
                <a:cubicBezTo>
                  <a:pt x="487" y="239"/>
                  <a:pt x="975" y="16"/>
                  <a:pt x="1497" y="8"/>
                </a:cubicBezTo>
                <a:cubicBezTo>
                  <a:pt x="2019" y="0"/>
                  <a:pt x="2574" y="208"/>
                  <a:pt x="3130" y="4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562200"/>
            <a:ext cx="3311280" cy="514440"/>
          </a:xfrm>
          <a:custGeom>
            <a:avLst/>
            <a:gdLst/>
            <a:ahLst/>
            <a:rect l="l" t="t" r="r" b="b"/>
            <a:pathLst>
              <a:path w="1996" h="369">
                <a:moveTo>
                  <a:pt x="0" y="369"/>
                </a:moveTo>
                <a:cubicBezTo>
                  <a:pt x="355" y="191"/>
                  <a:pt x="711" y="14"/>
                  <a:pt x="1044" y="7"/>
                </a:cubicBezTo>
                <a:cubicBezTo>
                  <a:pt x="1377" y="0"/>
                  <a:pt x="1686" y="162"/>
                  <a:pt x="1996" y="3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2697120"/>
            <a:ext cx="6481800" cy="1379520"/>
          </a:xfrm>
          <a:custGeom>
            <a:avLst/>
            <a:gdLst/>
            <a:ahLst/>
            <a:rect l="l" t="t" r="r" b="b"/>
            <a:pathLst>
              <a:path w="4083" h="869">
                <a:moveTo>
                  <a:pt x="0" y="824"/>
                </a:moveTo>
                <a:cubicBezTo>
                  <a:pt x="635" y="412"/>
                  <a:pt x="1271" y="0"/>
                  <a:pt x="1951" y="7"/>
                </a:cubicBezTo>
                <a:cubicBezTo>
                  <a:pt x="2631" y="14"/>
                  <a:pt x="3357" y="441"/>
                  <a:pt x="4083" y="8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4508640"/>
            <a:ext cx="431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4581360"/>
            <a:ext cx="431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581360"/>
            <a:ext cx="431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4581360"/>
            <a:ext cx="432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581360"/>
            <a:ext cx="432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306864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nl-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734080"/>
            <a:ext cx="525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basic rostering problem is polynomiall sol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ore complicated/realistic model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ead of assuming that a unique capacity requirement for each type of personnel can be deduced/specified, one often uses an intermediary modelling step using competencies/skil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3933720"/>
            <a:ext cx="1009440" cy="29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pected or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4581360"/>
            <a:ext cx="259236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kil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3860640"/>
            <a:ext cx="71928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nel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4797360"/>
            <a:ext cx="648000" cy="11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4797360"/>
            <a:ext cx="647640" cy="11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3716280"/>
            <a:ext cx="201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P Hard problems, mostly solved using local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aking combinations of roster task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ven the tasks in the roster, find combinations of tasks to assign to staff members,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 tasks are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combination is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costs of the selected combinations is minimum (overwork time, irregularity compens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feasible combination of roster task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l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 it’s cost, and denote by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personnel scheduled for this combination. L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 the number of  staff which must be assigned to roster tas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Feasibilit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n’t work the day after a night shif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ork during weekend is compensated for in the next we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n’t work more than 12 hours consecutivel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n’t work more than 48 hours per week (patient safe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y After Night versus Night After Da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t cetera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et partitioning formula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j)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be the set of feasible combinations which include roster task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P) =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.t.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(j)  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= d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for all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What’s the problem in NL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42920" y="1413000"/>
          <a:ext cx="4033800" cy="23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403380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042920" y="4149720"/>
          <a:ext cx="403380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149720"/>
                    <a:ext cx="4033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300720" y="765000"/>
          <a:ext cx="2448000" cy="5740560"/>
        </p:xfrm>
        <a:graphic>
          <a:graphicData uri="http://schemas.openxmlformats.org/drawingml/2006/table">
            <a:tbl>
              <a:tblPr/>
              <a:tblGrid>
                <a:gridCol w="1359000"/>
                <a:gridCol w="1089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HC 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88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13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398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66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937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21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50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79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08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39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70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1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4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67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00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35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70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067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435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81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195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Branch &amp; Pric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rt with any feasible solutio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o (S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lve the LP relaxation of the restricted version of (SP) which only considers the columns of the variables in the current solution, and compute the dual vari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ice: Generate new combinations of roster tasks with negative reduced costs, until such new combinations can not be found, and the LP relaxation of (SP) is solved to optim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ch: Solve the thus obtained restricted version of SP. If the solution is integral, stop: an integer solution is found. If its fractional, branch and go to 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The column generation problem (or pricing problem)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ypically the pricing problem is a shortest path problem, where the paths correspond to primal variables, and the nodes on the path correspond to the dual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he length of a path equals the cost, which equals the usual cost minus the shadow prices of the dual variables corresponding to the nodes on the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he task is to find a path with negative cost. The exact formulation of this problem strongly depends on the specific rostering problem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though the set partitioning problem is NP-Complete in itself, and there are exponentially many columns, this approach  often works well in prac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Assigning (combinations of) roster tasks to personnel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ake into accou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vailability of individual perso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ferences of individual personnel: remember they are a scarce resourc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quity in work distribution (they all remember they worked last year during Christmas, so it isn’t their turn this year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olution method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cal search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netic algorithm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straint programming, other AI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imula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lf ros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ior nurse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rket based approache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elf Rostering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ample by De Grano et al. (20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ach nurse posseses 400 points and may assign them to roster tasks, positively or negatively. Positive represents a desire to perform that task, negative a dislike of the ta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assignments of points to tasks form a sealed bid in a single round auc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cheduling procedu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r each task, accept the highest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ositive b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r each task, accept the lowest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negative bids, where l is the maximum number of nurses that can be off duty at that moment in time given the requirem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f the resulting schedule is feasible: 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f not, make it feasible using an ILP formulation which takes all constraints and the bid values into account (and is solved using Cplex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A comment on self rostering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lf rostering can be very valuable to attract and retain personnel. (dissatisfaction with schedule are often named as reason to quite the jo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ir’ models to assign work which take personal preferences into accou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sealed bid auction is just a simple example. More advanced market designs are certainly worthy of investig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Care at Hom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viding health services at home is an important and growing develop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tients prefere to stay at hom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are at home is cheape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are at home is especially appropriate for elderly people who form a growing fraction of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Work force scheduling for home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akes into accou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cated care’: prescription of tasks to perform – from which the required skills can be deduce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vailability of personnel, and skills of perso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st of perso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velling from and to home location of personnel and between patient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act agreements (contracted hours, overwork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olution methods for home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t partitioning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branch &amp;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 sorts of heuristic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kin to Integrated Vehicle and Crew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ynamic/ real time approaches (Cf. work on ANWB Van de Klundert and Wormer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What’s the problem in the USA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5734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Insufficient nurse staffing levels are a major factor in the prevalence of medical errors  (Green,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282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From academia to implementa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st for nurse scheduling software in the USA: 156 million USD per year (Kellog &amp; Walczak, 2007). These authors identif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2 papers in the period 1985-200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0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4 mathematical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7 heu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 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 AI (incl 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Implementation and result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5 out of 50 im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uch collaboration between researchers and nurses, little collaboration between researchers and software vend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st successful implementations in Europe (not U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utch Vendor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rtec: Har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uintiq: Quinti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um: MPX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ostarflex, PlanIT,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Be ware 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nomy and distrust of management and planning have strong and deep roots among health care professionals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vertheless, the planning problems are too large to remain unexplo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cess In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ask re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ter planning of scarce human resources capacity: operation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uestion: what is the most used planning technology in the health care sect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uestion: what is the typical carreer history of plann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54364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Arrival patterns for emergency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Stationary independent period by period (SIPP) solution approach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3123720"/>
            <a:ext cx="77724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vide the into planning periods (e.g. 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del the arrival patterns per planning period using a stationary proces, e.g. M/M/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lve the resulting models independently using a a given service target (e.g. 60 minu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/M/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pondentially distributed arrival processes with mean interarrival tim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ponentially distributed service process with mean service tim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servers (s n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7355160" cy="346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5445000"/>
            <a:ext cx="648000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Formula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7475400" cy="424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7564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ean waiting tim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1994040" cy="100188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4186080" cy="58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ervi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653000"/>
            <a:ext cx="586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st countries have laws and reg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garding maximum waiting time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hich are hardly ever used in pers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apacity planning (determining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386064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here C(s,a) is the Erlang C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6:45:25Z</dcterms:created>
  <dc:creator>Prismant</dc:creator>
  <dc:description/>
  <dc:language>en-US</dc:language>
  <cp:lastModifiedBy>vandeklundert</cp:lastModifiedBy>
  <dcterms:modified xsi:type="dcterms:W3CDTF">2010-03-21T20:53:45Z</dcterms:modified>
  <cp:revision>13</cp:revision>
  <dc:subject/>
  <dc:title>Dia 1</dc:title>
</cp:coreProperties>
</file>