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4240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0040" y="236196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14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4240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0040" y="431208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431208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236196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312080"/>
            <a:ext cx="77724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Afbeelding 5" descr="BMG template_PPT_master_UK 12aug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671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Joris van de Klundert</a:t>
            </a:r>
            <a:br>
              <a:rPr sz="2800"/>
            </a:b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Department of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 Bold"/>
              </a:rPr>
              <a:t> Health Services Management &amp; Operations</a:t>
            </a: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38080" y="56008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Care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ealth Services Research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ALY: Disability adjusted lif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DALY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easure of overall disease burden, expressed as the number of years lost due to ill-health, disability or early deat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DALY for a particular group </a:t>
            </a:r>
            <a:r>
              <a:rPr b="1" i="1" lang="nl-NL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(country, patient group)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Cambria Math"/>
              </a:rPr>
              <a:t>∑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Cambria Math"/>
              </a:rPr>
              <a:t>t</a:t>
            </a:r>
            <a:r>
              <a:rPr b="0" i="1" lang="nl-NL" sz="2200" spc="-1" strike="noStrike">
                <a:solidFill>
                  <a:srgbClr val="000000"/>
                </a:solidFill>
                <a:latin typeface="Cambria Math"/>
              </a:rPr>
              <a:t> E(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QALY(t,g))/1+r)</a:t>
            </a:r>
            <a:r>
              <a:rPr b="0" i="1" lang="nl-NL" sz="2200" spc="-1" strike="noStrike" baseline="30000">
                <a:solidFill>
                  <a:srgbClr val="000000"/>
                </a:solidFill>
                <a:latin typeface="Arial"/>
              </a:rPr>
              <a:t>t 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200" spc="-1" strike="noStrike">
                <a:solidFill>
                  <a:srgbClr val="000000"/>
                </a:solidFill>
                <a:latin typeface="Cambria Math"/>
              </a:rPr>
              <a:t>∑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Cambria Math"/>
              </a:rPr>
              <a:t>t</a:t>
            </a:r>
            <a:r>
              <a:rPr b="0" i="1" lang="nl-NL" sz="2200" spc="-1" strike="noStrike">
                <a:solidFill>
                  <a:srgbClr val="000000"/>
                </a:solidFill>
                <a:latin typeface="Cambria Math"/>
              </a:rPr>
              <a:t> E(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QALY(t,j))/1+r)</a:t>
            </a:r>
            <a:r>
              <a:rPr b="0" i="1" lang="nl-NL" sz="2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nl-NL" sz="2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is the population of Jap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lobal burden of disease = sum over all DAL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604360" cy="5516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Question:Can operations research reduce the global burden of diseas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987640" y="3429000"/>
            <a:ext cx="3527640" cy="2997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wer respiratory infection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arrhoeal disease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4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press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schaemic heart diseas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V/AID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rebrovascular disease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maturity, low birth weight   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irth asphyxia, birth trauma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ad traffic accident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2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AutoNum type="arabicPeriod"/>
              <a:tabLst>
                <a:tab algn="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onatal infections and other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2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stributing pharmaceuticals in Zam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ed distr&amp;site.jpg"/>
          <p:cNvPicPr/>
          <p:nvPr/>
        </p:nvPicPr>
        <p:blipFill>
          <a:blip r:embed="rId1"/>
          <a:stretch/>
        </p:blipFill>
        <p:spPr>
          <a:xfrm>
            <a:off x="1116000" y="1989000"/>
            <a:ext cx="7632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Stock out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hart 1" descr=""/>
          <p:cNvPicPr/>
          <p:nvPr/>
        </p:nvPicPr>
        <p:blipFill>
          <a:blip r:embed="rId1"/>
          <a:stretch/>
        </p:blipFill>
        <p:spPr>
          <a:xfrm>
            <a:off x="914400" y="2085840"/>
            <a:ext cx="539100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Two Essential Drug replenisment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47640" y="2499480"/>
            <a:ext cx="6372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models focusing on improving logistics capacity at the district level and reducing number of stockholding points were designed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A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The first pilot model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inues to hold stock at the district level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Furthermore, this model introduces a Commodity Planner (CP) at the district level to enhance planning capacity. This CP is responsible for coordinating orders from the health facilities and stock management at the distric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Model B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The second model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liminates the intermediate storage of drugs at the district leve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 The district store is converted into 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cross-do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 i.e. point of transit, wherein it receives shipments from MSL that are pre-packed for individual health facilit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-4543560" y="39816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del A: 2 echel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ct 18" descr=""/>
          <p:cNvPicPr/>
          <p:nvPr/>
        </p:nvPicPr>
        <p:blipFill>
          <a:blip r:embed="rId1"/>
          <a:srcRect l="-1166" t="0" r="-2326" b="-159"/>
          <a:stretch/>
        </p:blipFill>
        <p:spPr>
          <a:xfrm>
            <a:off x="971640" y="2492280"/>
            <a:ext cx="59436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del B: Cross d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24" descr=""/>
          <p:cNvPicPr/>
          <p:nvPr/>
        </p:nvPicPr>
        <p:blipFill>
          <a:blip r:embed="rId1"/>
          <a:srcRect l="-1273" t="0" r="-2773" b="-227"/>
          <a:stretch/>
        </p:blipFill>
        <p:spPr>
          <a:xfrm>
            <a:off x="900000" y="2276640"/>
            <a:ext cx="59436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al Life Results: Mode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hart 14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5457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al Life Results: Model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hart 6" descr=""/>
          <p:cNvPicPr/>
          <p:nvPr/>
        </p:nvPicPr>
        <p:blipFill>
          <a:blip r:embed="rId1"/>
          <a:srcRect l="0" t="0" r="0" b="-22"/>
          <a:stretch/>
        </p:blipFill>
        <p:spPr>
          <a:xfrm>
            <a:off x="1116000" y="2637000"/>
            <a:ext cx="5962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omparison between A, B and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hart 7" descr=""/>
          <p:cNvPicPr/>
          <p:nvPr/>
        </p:nvPicPr>
        <p:blipFill>
          <a:blip r:embed="rId1"/>
          <a:srcRect l="0" t="0" r="0" b="-36"/>
          <a:stretch/>
        </p:blipFill>
        <p:spPr>
          <a:xfrm>
            <a:off x="1042920" y="2492280"/>
            <a:ext cx="540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Quality of Health Services: 3700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5. If a surgeon has operated with the bronze lancet on a patrician for a serious injury, and has cured him, or has removed with a bronze lancet a cataract for a patrician, and has cured his eye, he shall take ten shekels of sil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6. If it be a plebeian, he shall take five shekels of silver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7. If it be a man's slave, the owner of the slave shall give two shekels of silver to the surgeo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8. If a surgeon has operated with the bronze lancet on a patrician for a serious injury, and has caused his death, or has removed a cataract for a patrician, with the bronze lancet, and has made him lose his eye, his hands shall be cut off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9. If the surgeon has treated a serious injury of a plebeian's slave, with the bronze lancet, and has caused his death, he shall render slave for slave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. If he has removed a cataract with the bronze lancet, and made the slave lose his eye, he shall pay half his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esults: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797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nservative estimate shows that if Model B were scaled-up nationwide under-five and over-five mortality due to malaria would decrease by 21 percent and 25 percent respective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ing malaria related deaths alone, a scale up of Model B would translate into more than 770 000 Years of Life Lost (YLL) averted during a 5 year perio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68360" y="4881600"/>
          <a:ext cx="6337440" cy="1981080"/>
        </p:xfrm>
        <a:graphic>
          <a:graphicData uri="http://schemas.openxmlformats.org/drawingml/2006/table">
            <a:tbl>
              <a:tblPr/>
              <a:tblGrid>
                <a:gridCol w="1657440"/>
                <a:gridCol w="947880"/>
                <a:gridCol w="855720"/>
                <a:gridCol w="858600"/>
                <a:gridCol w="858960"/>
                <a:gridCol w="858960"/>
                <a:gridCol w="2998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der-five 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er-five population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-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-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tion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cured malaria ca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1,5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4,8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88,7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6,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7,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vere malaria ca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,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,7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,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,0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,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a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5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,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,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7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mension 2: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iciency is typically measured in cost and includes all cost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mployer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t cet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 with QALYs, some cost may be in the future, and therefore the net present value must be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Cost effectiveness = QALY/</a:t>
            </a:r>
            <a:r>
              <a:rPr b="0" lang="nl-NL" sz="3200" spc="-1" strike="noStrike">
                <a:solidFill>
                  <a:srgbClr val="000000"/>
                </a:solidFill>
                <a:latin typeface="Arial Bold"/>
                <a:ea typeface="Arial"/>
              </a:rPr>
              <a:t>€</a:t>
            </a: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4572000" y="220500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547640" y="414972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795672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06728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47636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067280" y="220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435640" y="407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 rot="16200000">
            <a:off x="3721680" y="26233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 flipV="1">
            <a:off x="900000" y="2060640"/>
            <a:ext cx="7704360" cy="39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Question: Is operations research c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re of the difference between efficacy and effectiven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fficacy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bility of an intervention or drug to reproduce a desired effect in expert hands and under ideal circumstan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042920" y="4367160"/>
            <a:ext cx="7632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vidence based Operation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ypically mathematical theorems and proofs are derived for models which don’t fit the complex reality of diseases and health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ffectiveness must be demonstrated in practice: empirical evidence 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Evidence based operations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How to generate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bserva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ross section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se contro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pective cohor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trospective cohor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Hybr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0" y="2362320"/>
            <a:ext cx="45720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eriment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domized Controlled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linical tria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uble blind RCT </a:t>
            </a:r>
            <a:r>
              <a:rPr b="0" lang="nl-NL" sz="2000" spc="-1" strike="noStrike">
                <a:solidFill>
                  <a:srgbClr val="000000"/>
                </a:solidFill>
                <a:latin typeface="Cambria Math"/>
              </a:rPr>
              <a:t>≡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Gol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ty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quasi experimental desig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Grading of evidence (Center EBM Oxf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71640" y="2334600"/>
            <a:ext cx="7777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a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atic reviews (with homogeneity) of randomized controlled t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b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randomized controlled trials (with narrow confidence interv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r none randomized controlled t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a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atic reviews (with homogeneity) of cohort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b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cohort study or low quality randomized controlled trials (e.g. &lt;80% follow-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c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Outcomes" Research; ecological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a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atic review (with homogeneity) of case-control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b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case-control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-series (and poor quality cohort and case-control stud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t opinion without explicit critical appraisal, or based on physiology, bench research or "first princip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65400" y="6400800"/>
            <a:ext cx="73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Question: what levels of evidence are appropriate for 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hat was the type of the Zambia supply chain study by Yadav/Worldba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hat is the level of evid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Is prevention cost effective for Demen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entia : loss of intellectual capability (such as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y have various causes (vascular, Alzhe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mentia is deadly (no cure is presently known), and has a substantial emotional, physical, and financial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fe expectancy after first diagnostic symptoms: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fe expectancy after clincial daignoste: 3.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re than 29 million will suffer from dementia i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Risk factors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k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fe sty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gative: sm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ve: mediteranean diet, moderate alcohol use, physical activity (before and during), cognitive exercise (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alth character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gative: high blood pressure, high cholesterol, head injuries, diab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itive: (reve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What is quality? 25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Plato:’….the feature that any object, action, person, or accomplishment of any kind has to have in order to be correctedly characterized as being of high value…..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What qualities do we expect from health servic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ementia Stages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00000" y="549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900000" y="3573360"/>
            <a:ext cx="1873440" cy="115092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8" y="0"/>
                </a:lnTo>
                <a:lnTo>
                  <a:pt x="21600" y="10800"/>
                </a:lnTo>
                <a:lnTo>
                  <a:pt x="154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2411280" y="3573360"/>
            <a:ext cx="2160720" cy="11509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4211640" y="3573360"/>
            <a:ext cx="2160720" cy="11509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6012000" y="3573360"/>
            <a:ext cx="2160360" cy="115092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e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7812000" y="3573360"/>
            <a:ext cx="1332000" cy="115092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718" y="0"/>
                </a:lnTo>
                <a:lnTo>
                  <a:pt x="21600" y="10800"/>
                </a:lnTo>
                <a:lnTo>
                  <a:pt x="12718" y="21600"/>
                </a:lnTo>
                <a:lnTo>
                  <a:pt x="0" y="21600"/>
                </a:lnTo>
                <a:lnTo>
                  <a:pt x="8882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330920" y="2308320"/>
            <a:ext cx="63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idence = The incidence is the number of new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ed cases during a specific time peri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1420560" y="5157720"/>
            <a:ext cx="72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alence = The number of cases alive on a certain d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0"/>
          <p:cNvSpPr/>
          <p:nvPr/>
        </p:nvSpPr>
        <p:spPr>
          <a:xfrm>
            <a:off x="2195640" y="3141720"/>
            <a:ext cx="14436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2411280" y="5013360"/>
            <a:ext cx="5473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Markov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26"/>
          <p:cNvGrpSpPr/>
          <p:nvPr/>
        </p:nvGrpSpPr>
        <p:grpSpPr>
          <a:xfrm>
            <a:off x="1932120" y="2349360"/>
            <a:ext cx="5279760" cy="3791160"/>
            <a:chOff x="1932120" y="2349360"/>
            <a:chExt cx="5279760" cy="3791160"/>
          </a:xfrm>
        </p:grpSpPr>
        <p:sp>
          <p:nvSpPr>
            <p:cNvPr id="163" name="AutoShape 27"/>
            <p:cNvSpPr/>
            <p:nvPr/>
          </p:nvSpPr>
          <p:spPr>
            <a:xfrm>
              <a:off x="1932120" y="2349360"/>
              <a:ext cx="5279760" cy="37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1932120" y="383688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Arial"/>
                </a:rPr>
                <a:t>No dement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5244120" y="532476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vere dement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4379760" y="321300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ment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3385800" y="2349360"/>
              <a:ext cx="123408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gnitiv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l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6251760" y="3764880"/>
              <a:ext cx="959760" cy="8157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7600" rIns="576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3"/>
            <p:cNvSpPr/>
            <p:nvPr/>
          </p:nvSpPr>
          <p:spPr>
            <a:xfrm flipV="1">
              <a:off x="2891880" y="3069000"/>
              <a:ext cx="767880" cy="12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34"/>
            <p:cNvSpPr/>
            <p:nvPr/>
          </p:nvSpPr>
          <p:spPr>
            <a:xfrm>
              <a:off x="4379760" y="3117600"/>
              <a:ext cx="9576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5"/>
            <p:cNvSpPr/>
            <p:nvPr/>
          </p:nvSpPr>
          <p:spPr>
            <a:xfrm>
              <a:off x="4956120" y="4028760"/>
              <a:ext cx="5756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6"/>
            <p:cNvSpPr/>
            <p:nvPr/>
          </p:nvSpPr>
          <p:spPr>
            <a:xfrm flipV="1">
              <a:off x="5915880" y="4508640"/>
              <a:ext cx="5277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7"/>
            <p:cNvSpPr/>
            <p:nvPr/>
          </p:nvSpPr>
          <p:spPr>
            <a:xfrm>
              <a:off x="4475880" y="2877120"/>
              <a:ext cx="191988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8"/>
            <p:cNvSpPr/>
            <p:nvPr/>
          </p:nvSpPr>
          <p:spPr>
            <a:xfrm>
              <a:off x="5292000" y="3789000"/>
              <a:ext cx="95976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9"/>
            <p:cNvSpPr/>
            <p:nvPr/>
          </p:nvSpPr>
          <p:spPr>
            <a:xfrm flipV="1">
              <a:off x="2891880" y="4268520"/>
              <a:ext cx="3359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40"/>
            <p:cNvSpPr/>
            <p:nvPr/>
          </p:nvSpPr>
          <p:spPr>
            <a:xfrm flipV="1">
              <a:off x="2891880" y="3789000"/>
              <a:ext cx="1583640" cy="52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41"/>
            <p:cNvSpPr/>
            <p:nvPr/>
          </p:nvSpPr>
          <p:spPr>
            <a:xfrm>
              <a:off x="2891880" y="4317120"/>
              <a:ext cx="2399760" cy="11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42"/>
            <p:cNvSpPr/>
            <p:nvPr/>
          </p:nvSpPr>
          <p:spPr>
            <a:xfrm>
              <a:off x="4043880" y="3165120"/>
              <a:ext cx="1343880" cy="23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43"/>
            <p:cNvSpPr/>
            <p:nvPr/>
          </p:nvSpPr>
          <p:spPr>
            <a:xfrm flipH="1">
              <a:off x="2747880" y="3069720"/>
              <a:ext cx="732960" cy="86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4"/>
            <p:cNvSpPr/>
            <p:nvPr/>
          </p:nvSpPr>
          <p:spPr>
            <a:xfrm flipH="1" flipV="1">
              <a:off x="2747520" y="4556880"/>
              <a:ext cx="2495880" cy="1103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5"/>
            <p:cNvSpPr/>
            <p:nvPr/>
          </p:nvSpPr>
          <p:spPr>
            <a:xfrm flipH="1">
              <a:off x="2891520" y="3692880"/>
              <a:ext cx="1487880" cy="479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6"/>
            <p:cNvSpPr/>
            <p:nvPr/>
          </p:nvSpPr>
          <p:spPr>
            <a:xfrm flipH="1" flipV="1">
              <a:off x="4475520" y="3069360"/>
              <a:ext cx="143640" cy="191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old"/>
              </a:rPr>
              <a:t>Health Care Qualities (Institute of Medic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tient centerednes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care that is respectful of and responsive to  individual patient preferences, needs and values, and ensuring that patient values guide all clinical deci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Dimension 1: 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ealth Outcomes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the health of an individual, group of people or population which is attributable to an intervention or series of interv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linical Outcomes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events that occur as a result of disease or treatment (death, HbA1c decrease, bli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unctional Outcomes: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 result of care that is meaningful and practical to the health service use (is optimistic, can live at home, clear vis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istic outcom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ient self-assessment of the impact of disease or treatment on their lives and well-being (e.g., satisfaction, quality of lif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Ultimate question: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424320" cy="4869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 rot="16200000">
            <a:off x="2728800" y="3973320"/>
            <a:ext cx="4943520" cy="825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ve measurement tools exist ( discrete choic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Q5D model to score Qual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48974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Quality adjusted life years: Q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e year in perfect health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65 * 100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e year in worst health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65 * 0    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1 QALY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6500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ected health value of rest of life = </a:t>
            </a:r>
            <a:r>
              <a:rPr b="0" i="1" lang="nl-NL" sz="2200" spc="-1" strike="noStrike">
                <a:solidFill>
                  <a:srgbClr val="000000"/>
                </a:solidFill>
                <a:latin typeface="Cambria Math"/>
              </a:rPr>
              <a:t>∑</a:t>
            </a:r>
            <a:r>
              <a:rPr b="0" i="1" lang="nl-NL" sz="2200" spc="-1" strike="noStrike" baseline="-25000">
                <a:solidFill>
                  <a:srgbClr val="000000"/>
                </a:solidFill>
                <a:latin typeface="Cambria Math"/>
              </a:rPr>
              <a:t>t</a:t>
            </a:r>
            <a:r>
              <a:rPr b="0" i="1" lang="nl-NL" sz="2200" spc="-1" strike="noStrike">
                <a:solidFill>
                  <a:srgbClr val="000000"/>
                </a:solidFill>
                <a:latin typeface="Cambria Math"/>
              </a:rPr>
              <a:t> E(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QALY(t))/1+r)</a:t>
            </a:r>
            <a:r>
              <a:rPr b="0" i="1" lang="nl-NL" sz="2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Bold"/>
              </a:rPr>
              <a:t>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intervention is said to be effective if the expected health value of rest of life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ma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ectiveness is dependent on patient conditions, and typically measured for a well defined group of service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∑</a:t>
            </a:r>
            <a:r>
              <a:rPr b="0" i="1" lang="nl-NL" sz="2000" spc="-1" strike="noStrike" baseline="-25000">
                <a:solidFill>
                  <a:srgbClr val="000000"/>
                </a:solidFill>
                <a:latin typeface="Cambria Math"/>
              </a:rPr>
              <a:t>t</a:t>
            </a:r>
            <a:r>
              <a:rPr b="0" i="1" lang="nl-NL" sz="2000" spc="-1" strike="noStrike">
                <a:solidFill>
                  <a:srgbClr val="000000"/>
                </a:solidFill>
                <a:latin typeface="Cambria Math"/>
              </a:rPr>
              <a:t> E(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QALY(t,g))/1+r)</a:t>
            </a:r>
            <a:r>
              <a:rPr b="0" i="1" lang="nl-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ffectiveness are based on averages (average quality of life), not on individuals (who score the quality of l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lied utalitarian calculus is deb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6:45:25Z</dcterms:created>
  <dc:creator>Prismant</dc:creator>
  <dc:description/>
  <dc:language>en-US</dc:language>
  <cp:lastModifiedBy>Joris van de Klundert</cp:lastModifiedBy>
  <dcterms:modified xsi:type="dcterms:W3CDTF">2012-03-23T15:44:52Z</dcterms:modified>
  <cp:revision>19</cp:revision>
  <dc:subject/>
  <dc:title>Dia 1</dc:title>
</cp:coreProperties>
</file>