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CC852-C49F-4778-84BD-37EE10C85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7"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8"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40D87-C9E8-4226-9E3B-03002BEA1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0"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1"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2"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3"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AFDC7-C899-4773-BF6A-16F83AB9F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5"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6"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7"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8"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9"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0"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26519-0F21-43DD-AE90-1A3058855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D50B6-41FF-444F-92CB-511E29312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47"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6C8DD-762E-4813-A516-220EF70A2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49"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C58FA-7044-4532-886C-1C55E0C52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51"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2"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AE4E7-2C8A-497E-8585-44A7396FA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40EE4-0D9B-4AF1-91CA-928283A60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7022C-E1BD-425A-9B0E-B903B4BE0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56"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7"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8"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D5B31-6548-474E-B4EE-F07EF5521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6AB74-5F29-4202-83C4-1E685F7E5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0"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1"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2"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D2431-D493-4340-A312-EF9AC33F6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4"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5"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6"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327F4-9059-4DC0-B887-E84220DEA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8"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9"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ED848-7EC0-4109-94BD-47711992A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71"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2"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3"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4"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A4254-C84A-4C49-A874-331475511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76"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7"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8"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9"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0"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1"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0C4B6-DDC6-4F3A-91C0-F08E59979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6160C0-A50A-484C-855A-9F6202BFE7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88"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20D9D-7C25-4739-92E9-CC1373069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0"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2D96CF-899C-4DBF-A646-EC83A8AC3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2"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3"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4C2D4-4059-484B-8607-53B91C453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B0FB5E-5014-42CE-921E-8ACB0144A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8"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0271F-BAFD-439A-AD0D-D5A0B4B4F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DA05D-D72A-451C-BF32-125CCF7BE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7"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8"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9"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B901D-1931-4DC6-8A00-257630C67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1"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2"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3"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7B585-83DD-4F66-BD87-C31B3FA99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5"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6"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7"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61869-EA2A-484A-938C-7441294A1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9"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0"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C8A5D-77BE-4549-ACB6-6B95AD745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12"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3"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4"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5"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DB8FF3-5D9F-4A24-A932-19D5185218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17"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8"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9"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0"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1"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2"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37B1D-7B4D-4F1A-B68D-FA0ABFE458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437CC1-5A65-4E29-83A1-F0D72861D3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0"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64016-A974-4E3F-B401-3D61BA6014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2"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BEB771-8B83-49DA-86A1-4E729FB98A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20897-2ADA-4CFD-AA83-B10706D98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4"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35"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5EDA0-20D1-4716-8A81-9EB5C5FFA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111D3-7379-4108-88D7-AC3109EC1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FC443-5607-4DE4-A849-154122DD6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9"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0"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1"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EAEB4-1173-4D9A-9705-28A33D0F3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43"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4"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5"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8A776-E4D1-42BC-B30D-AB789C2F7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47"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8"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9"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77FA8-D305-4E79-83BB-56F7DF3B4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1"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2"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B4E179-D2AF-4DFD-BE25-C25745B64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4"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5"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6"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7"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2B7159-7100-45E4-A389-DBA98F7711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9"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0"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1"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2"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3"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4"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638EDA-D26C-423A-9B95-B35359D16F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7D84CE-BDCE-49A9-AB40-1DF5F8FF0C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BB485-290D-4D68-88B7-611F2B175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2"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F5A66-C39D-49C4-9FB5-D04B90729F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4"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BC5D01-3FF2-4D2B-B1DB-75395488A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6"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7"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F1F82-FFE9-4F81-9A1B-FF31DD838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76742A-BBE0-4EC6-8A1C-781900DA7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5138F-AB32-4E7F-9C5A-EB3188A5F7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1"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2"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3"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3AA173-965F-419B-B519-4BBCE8B68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5"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6"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7"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15A14-2697-4A1D-BE6E-90E6F69D5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9"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0"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1"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6AC23-D6FA-4AD7-A425-4764C4697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3"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4"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820257-CF58-4EC0-8324-A5C3E4DA6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6"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7"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8"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9"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191C3F-524C-4567-86A3-3DC736232E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B6423-97A7-49DD-8346-1574DFB43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01"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2"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3"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4"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5"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6"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D113BD-EB3B-458D-BD77-3C4CBF88E2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3EAB6-72A6-4903-814F-8D8B61D4F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1"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1FE46-C20C-46EE-81EF-4AF5B812B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3"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4"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5"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4164C-4838-406F-A9D5-5394203E4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2" name="PlaceHolder 3"/>
          <p:cNvSpPr>
            <a:spLocks noGrp="1"/>
          </p:cNvSpPr>
          <p:nvPr>
            <p:ph type="dt" idx="1"/>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3E7B0-F2BF-4DD1-B14B-9A5FE96BB4B2}"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af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42"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43" name="PlaceHolder 3"/>
          <p:cNvSpPr>
            <a:spLocks noGrp="1"/>
          </p:cNvSpPr>
          <p:nvPr>
            <p:ph type="dt" idx="4"/>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 name="PlaceHolder 5"/>
          <p:cNvSpPr>
            <a:spLocks noGrp="1"/>
          </p:cNvSpPr>
          <p:nvPr>
            <p:ph type="sldNum" idx="6"/>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95964-46EC-458A-AF3B-365C1E5A602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a21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83"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84" name="PlaceHolder 3"/>
          <p:cNvSpPr>
            <a:spLocks noGrp="1"/>
          </p:cNvSpPr>
          <p:nvPr>
            <p:ph type="dt" idx="7"/>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5" name="PlaceHolder 4"/>
          <p:cNvSpPr>
            <a:spLocks noGrp="1"/>
          </p:cNvSpPr>
          <p:nvPr>
            <p:ph type="ftr" idx="8"/>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 name="PlaceHolder 5"/>
          <p:cNvSpPr>
            <a:spLocks noGrp="1"/>
          </p:cNvSpPr>
          <p:nvPr>
            <p:ph type="sldNum" idx="9"/>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C4DD9-404E-41DD-BEA1-D309421F4B3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3" name="Rectangle 25"/>
          <p:cNvSpPr/>
          <p:nvPr/>
        </p:nvSpPr>
        <p:spPr>
          <a:xfrm>
            <a:off x="0" y="0"/>
            <a:ext cx="609588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4"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25"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26" name="PlaceHolder 3"/>
          <p:cNvSpPr>
            <a:spLocks noGrp="1"/>
          </p:cNvSpPr>
          <p:nvPr>
            <p:ph type="dt" idx="10"/>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804960" y="6235200"/>
            <a:ext cx="512424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8" name="PlaceHolder 5"/>
          <p:cNvSpPr>
            <a:spLocks noGrp="1"/>
          </p:cNvSpPr>
          <p:nvPr>
            <p:ph type="sldNum" idx="12"/>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9469A-BC01-4D96-A497-B453A6843F61}"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5" name="Rectangle 17"/>
          <p:cNvSpPr/>
          <p:nvPr/>
        </p:nvSpPr>
        <p:spPr>
          <a:xfrm>
            <a:off x="0" y="0"/>
            <a:ext cx="609588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66"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67"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68" name="PlaceHolder 3"/>
          <p:cNvSpPr>
            <a:spLocks noGrp="1"/>
          </p:cNvSpPr>
          <p:nvPr>
            <p:ph type="dt" idx="13"/>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69" name="PlaceHolder 4"/>
          <p:cNvSpPr>
            <a:spLocks noGrp="1"/>
          </p:cNvSpPr>
          <p:nvPr>
            <p:ph type="ftr" idx="14"/>
          </p:nvPr>
        </p:nvSpPr>
        <p:spPr>
          <a:xfrm>
            <a:off x="804960" y="6235200"/>
            <a:ext cx="512424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0" name="PlaceHolder 5"/>
          <p:cNvSpPr>
            <a:spLocks noGrp="1"/>
          </p:cNvSpPr>
          <p:nvPr>
            <p:ph type="sldNum" idx="15"/>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0F3ED-57C0-476B-AEAB-DD22614D81B5}"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2385720"/>
            <a:ext cx="8991720" cy="1646280"/>
          </a:xfrm>
          <a:prstGeom prst="rect">
            <a:avLst/>
          </a:prstGeom>
          <a:solidFill>
            <a:srgbClr val="ffffff"/>
          </a:solidFill>
          <a:ln cap="sq" w="38160">
            <a:solidFill>
              <a:srgbClr val="404040"/>
            </a:solidFill>
            <a:miter/>
          </a:ln>
        </p:spPr>
        <p:txBody>
          <a:bodyPr lIns="274320" rIns="274320" tIns="182880" bIns="1828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262626"/>
                </a:solidFill>
                <a:latin typeface="Gill Sans MT"/>
              </a:rPr>
              <a:t>CERTIFICAAT PUBLIC RELATIONS</a:t>
            </a:r>
            <a:endParaRPr b="0" lang="en-US" sz="3800" spc="-1" strike="noStrike">
              <a:solidFill>
                <a:srgbClr val="262626"/>
              </a:solidFill>
              <a:latin typeface="Gill Sans MT"/>
            </a:endParaRPr>
          </a:p>
        </p:txBody>
      </p:sp>
      <p:sp>
        <p:nvSpPr>
          <p:cNvPr id="208" name="PlaceHolder 2"/>
          <p:cNvSpPr>
            <a:spLocks noGrp="1"/>
          </p:cNvSpPr>
          <p:nvPr>
            <p:ph type="subTitle"/>
          </p:nvPr>
        </p:nvSpPr>
        <p:spPr>
          <a:xfrm>
            <a:off x="2695320" y="4352760"/>
            <a:ext cx="6800760" cy="1239840"/>
          </a:xfrm>
          <a:prstGeom prst="rect">
            <a:avLst/>
          </a:prstGeom>
          <a:noFill/>
          <a:ln w="0">
            <a:noFill/>
          </a:ln>
        </p:spPr>
        <p:txBody>
          <a:bodyPr lIns="0" rIns="0" tIns="0" bIns="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6" name="Rectangle 6"/>
          <p:cNvSpPr/>
          <p:nvPr/>
        </p:nvSpPr>
        <p:spPr>
          <a:xfrm>
            <a:off x="804960" y="804960"/>
            <a:ext cx="10582200" cy="5248080"/>
          </a:xfrm>
          <a:prstGeom prst="rect">
            <a:avLst/>
          </a:prstGeom>
          <a:solidFill>
            <a:srgbClr val="ffffff"/>
          </a:solidFill>
          <a:ln cap="sq" w="1908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aphicFrame>
        <p:nvGraphicFramePr>
          <p:cNvPr id="227" name=""/>
          <p:cNvGraphicFramePr/>
          <p:nvPr/>
        </p:nvGraphicFramePr>
        <p:xfrm>
          <a:off x="1125360" y="1450800"/>
          <a:ext cx="9941040" cy="3994200"/>
        </p:xfrm>
        <a:graphic>
          <a:graphicData uri="http://schemas.openxmlformats.org/drawingml/2006/table">
            <a:tbl>
              <a:tblPr/>
              <a:tblGrid>
                <a:gridCol w="1103400"/>
                <a:gridCol w="1968480"/>
                <a:gridCol w="2270160"/>
                <a:gridCol w="1908360"/>
                <a:gridCol w="2054160"/>
                <a:gridCol w="636480"/>
              </a:tblGrid>
              <a:tr h="43992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Aantal punt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Onvoldoende</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 </a:t>
                      </a:r>
                      <a:r>
                        <a:rPr b="1" lang="nl-NL" sz="900" spc="-1" strike="noStrike">
                          <a:solidFill>
                            <a:srgbClr val="ffffff"/>
                          </a:solidFill>
                          <a:latin typeface="Gill Sans MT"/>
                        </a:rPr>
                        <a:t>0-3p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Matig</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3-5 p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Voldoende </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5-7</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Heel goed</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7-10</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Niet van toepassing</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r>
              <a:tr h="5864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Creativiteit Logo</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duidelijk dat er geen moeite is gedaan om een mooi en passend logo te ontwerp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een beetje moeite gedaan is om een logo te ontwerpen maar het is niet goed gelu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te zien dat er moeite is gedaan om een mooi logo te ontwerpen en deze is ook best goed gelu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te zien dat er veel moeite is gedaan om een mooi logo te ontwerpen, deze is origineel en goed ontworp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r>
              <a:tr h="5864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Creativiteit Slog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niet te zien dat er moeite is gedaan om een goede slogan te bedenken en de slogan past niet bij wat de fabriek uit wil stral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een beetje moeite is gedaan om een slogan te bedenken en deze past een beetje bij wat de fabriek uit wil strale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voldoende moeite is gedaan om een slogan te bedenken en deze past bij wat de fabriek uit wil strale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slogan past goed bij wat de fabriek uit wil stralen en is daarbij ook erg origineel.</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r>
              <a:tr h="73296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Juiste keuze communicatiemiddel</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niet uitgelegd welke 2 communicatiemiddelen gebruikt gaan worden om de reclamecampagne over te brengen naar de klan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maar er wordt niet uitgelegd waarom deze gekozen zijn of de uitleg klopt nie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Het is redelijk duidelijk waarom deze communicatiemiddelen gekozen zij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Het is heel erg duidelijk waarom deze communicatiemiddelen gekozen zijn en ze passen ook erg goed bij de doelgroep.</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r>
              <a:tr h="98100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De mate van aansluiting van de 3 onderdel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Logo, slogan en communicatiemiddelen sluiten niet op elkaar a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Twee van de 3 onderdelen sluiten wel op elkaar aan maar de derde niet. Bijvoorbeeld: Logo en slogan sluiten wel op elkaar aan maar niet op communicatiemiddel. </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Alle drie de onderdelen sluiten goed op elkaar a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Alle drie de onderdelen sluiten goed op elkaar aan en daarnaast wordt goed onderbouwd waarom ze op elkaar aansluit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r>
              <a:tr h="13190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De presentatie</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niet goed in elkaar. De leden van de groep die het woord deden spraken onduidelijk en hadden geen goede presentatiehouding. Het werd niet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niet goed in elkaar. De leden van de groep die het woord deden spraken (redelijk) helder en hadden een (redelijk) goede presentatiehouding. Het werd nog niet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redelijk) goed in elkaar. De leden van de groep die het woord deden spraken (redelijk) helder en hadden een (redelijk) goede presentatiehouding. Het werd redelijk duidelijk waarom deze groep bepaalde keuzes had gemaak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goed in elkaar. De leden van de groep die het woord deden spraken helder en hadden een goede presentatiehouding. Het werd goed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30200" y="275760"/>
            <a:ext cx="773100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DE OPDRACHT</a:t>
            </a:r>
            <a:endParaRPr b="0" lang="en-US" sz="2800" spc="-1" strike="noStrike">
              <a:solidFill>
                <a:srgbClr val="262626"/>
              </a:solidFill>
              <a:latin typeface="Gill Sans MT"/>
            </a:endParaRPr>
          </a:p>
        </p:txBody>
      </p:sp>
      <p:sp>
        <p:nvSpPr>
          <p:cNvPr id="210" name=""/>
          <p:cNvSpPr txBox="1"/>
          <p:nvPr/>
        </p:nvSpPr>
        <p:spPr>
          <a:xfrm>
            <a:off x="2230200" y="1739520"/>
            <a:ext cx="7731000" cy="4000680"/>
          </a:xfrm>
          <a:prstGeom prst="rect">
            <a:avLst/>
          </a:prstGeom>
          <a:noFill/>
          <a:ln w="0">
            <a:noFill/>
          </a:ln>
        </p:spPr>
        <p:txBody>
          <a:bodyPr anchor="t">
            <a:normAutofit/>
          </a:bodyPr>
          <a:p>
            <a:pPr marL="228600" indent="-228600">
              <a:lnSpc>
                <a:spcPct val="9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ullie zijn nu al een tijdje bezig met het runnen van de chipfabriek Paragon Chips.</a:t>
            </a:r>
            <a:r>
              <a:rPr b="0" lang="nl-NL" sz="1500" spc="-1" strike="noStrike">
                <a:solidFill>
                  <a:srgbClr val="ff0000"/>
                </a:solidFill>
                <a:latin typeface="Calibri"/>
                <a:ea typeface="Calibri"/>
              </a:rPr>
              <a:t> </a:t>
            </a:r>
            <a:r>
              <a:rPr b="0" lang="nl-NL" sz="1500" spc="-1" strike="noStrike">
                <a:solidFill>
                  <a:srgbClr val="262626"/>
                </a:solidFill>
                <a:latin typeface="Calibri"/>
                <a:ea typeface="Calibri"/>
              </a:rPr>
              <a:t>Om de fabriek winstgevend te maken is het belangrijk dat de juiste klanten je product kunnen vinden. Dit is de taak van de afdeling Public Relations en jullie mogen deze taak gaan uitvoeren. Als PR afdeling mogen jullie een logo ontwerpen, een slogan bedenken en als laatste kiezen jullie een communicatiemiddel waarmee je dit op de consument over wilt gaan brengen.</a:t>
            </a:r>
            <a:endParaRPr b="0" lang="en-US" sz="1500" spc="-1" strike="noStrike">
              <a:solidFill>
                <a:srgbClr val="262626"/>
              </a:solidFill>
              <a:latin typeface="Gill Sans MT"/>
            </a:endParaRPr>
          </a:p>
          <a:p>
            <a:pPr marL="228600" indent="-228600">
              <a:lnSpc>
                <a:spcPct val="9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Een reclamebureau heeft al een aantal logo´s ontworpen en een aantal slogans bedacht. Het is aan jullie om hier een goede reclamecampagne van te maken. Jullie mogen zelf kiezen:</a:t>
            </a:r>
            <a:endParaRPr b="0" lang="en-US" sz="1500" spc="-1" strike="noStrike">
              <a:solidFill>
                <a:srgbClr val="262626"/>
              </a:solidFill>
              <a:latin typeface="Gill Sans MT"/>
            </a:endParaRPr>
          </a:p>
          <a:p>
            <a:pPr marL="228600" indent="-228600">
              <a:lnSpc>
                <a:spcPct val="97000"/>
              </a:lnSpc>
              <a:spcBef>
                <a:spcPts val="1001"/>
              </a:spcBef>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ontwerpt zelf een logo en bedenkt een slogan. Daarna kies je een communicatiemiddel.</a:t>
            </a:r>
            <a:endParaRPr b="0" lang="en-US" sz="1500" spc="-1" strike="noStrike">
              <a:solidFill>
                <a:srgbClr val="262626"/>
              </a:solidFill>
              <a:latin typeface="Gill Sans MT"/>
            </a:endParaRPr>
          </a:p>
          <a:p>
            <a:pPr marL="228600" indent="-228600">
              <a:lnSpc>
                <a:spcPct val="97000"/>
              </a:lnSpc>
              <a:spcBef>
                <a:spcPts val="1001"/>
              </a:spcBef>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kiest een logo uit en bedenkt zelf een slogan. Daarna kies je een communicatiemiddel.</a:t>
            </a:r>
            <a:endParaRPr b="0" lang="en-US" sz="1500" spc="-1" strike="noStrike">
              <a:solidFill>
                <a:srgbClr val="262626"/>
              </a:solidFill>
              <a:latin typeface="Gill Sans MT"/>
            </a:endParaRPr>
          </a:p>
          <a:p>
            <a:pPr marL="228600" indent="-228600">
              <a:lnSpc>
                <a:spcPct val="97000"/>
              </a:lnSpc>
              <a:spcBef>
                <a:spcPts val="1001"/>
              </a:spcBef>
              <a:spcAft>
                <a:spcPts val="799"/>
              </a:spcAft>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kiest een slogan en ontwerpt zelf een logo. Daarna kies je een communicatiemiddel.</a:t>
            </a:r>
            <a:endParaRPr b="0" lang="en-US" sz="1500" spc="-1" strike="noStrike">
              <a:solidFill>
                <a:srgbClr val="262626"/>
              </a:solidFill>
              <a:latin typeface="Gill Sans MT"/>
            </a:endParaRPr>
          </a:p>
          <a:p>
            <a:pPr marL="228600" indent="-228600">
              <a:lnSpc>
                <a:spcPct val="9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122200" y="423360"/>
            <a:ext cx="772956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HOE GA JE AAN DE SLAG?</a:t>
            </a:r>
            <a:endParaRPr b="0" lang="en-US" sz="2800" spc="-1" strike="noStrike">
              <a:solidFill>
                <a:srgbClr val="262626"/>
              </a:solidFill>
              <a:latin typeface="Gill Sans MT"/>
            </a:endParaRPr>
          </a:p>
        </p:txBody>
      </p:sp>
      <p:sp>
        <p:nvSpPr>
          <p:cNvPr id="212" name=""/>
          <p:cNvSpPr txBox="1"/>
          <p:nvPr/>
        </p:nvSpPr>
        <p:spPr>
          <a:xfrm>
            <a:off x="2230200" y="1828800"/>
            <a:ext cx="7731000" cy="3911760"/>
          </a:xfrm>
          <a:prstGeom prst="rect">
            <a:avLst/>
          </a:prstGeom>
          <a:noFill/>
          <a:ln w="0">
            <a:noFill/>
          </a:ln>
        </p:spPr>
        <p:txBody>
          <a:bodyPr anchor="t">
            <a:normAutofit/>
          </a:bodyPr>
          <a:p>
            <a:pPr marL="228600" indent="-2286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Het belangrijkste bij deze opdracht is het maken van een kloppende reclamecampagne. De drie onderdelen logo, slogan en communicatiemiddel moeten goed op elkaar aansluiten en samen een goeddoordachte campagne vormen. Vooraf moet je daarbij bedenken wie je klant is. Is jullie campagne gericht op een jong publiek? Of misschien wel op een publiek die duurzaamheid heel belangrijk vindt? </a:t>
            </a:r>
            <a:r>
              <a:rPr b="0" lang="nl-NL" sz="1800" spc="-1" strike="noStrike" u="sng">
                <a:solidFill>
                  <a:srgbClr val="262626"/>
                </a:solidFill>
                <a:uFillTx/>
                <a:latin typeface="Calibri"/>
                <a:ea typeface="Calibri"/>
              </a:rPr>
              <a:t>Belangrijk aan deze opdracht is dat je een pitch moet houden voor de directie van de fabriek, hoe heb je er voor gezorgd dat je de verschillende onderdelen laat samen komen in een pakkende campagne?</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30200" y="364680"/>
            <a:ext cx="773100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PITCH</a:t>
            </a:r>
            <a:endParaRPr b="0" lang="en-US" sz="2800" spc="-1" strike="noStrike">
              <a:solidFill>
                <a:srgbClr val="262626"/>
              </a:solidFill>
              <a:latin typeface="Gill Sans MT"/>
            </a:endParaRPr>
          </a:p>
        </p:txBody>
      </p:sp>
      <p:sp>
        <p:nvSpPr>
          <p:cNvPr id="214" name=""/>
          <p:cNvSpPr txBox="1"/>
          <p:nvPr/>
        </p:nvSpPr>
        <p:spPr>
          <a:xfrm>
            <a:off x="2230200" y="1956960"/>
            <a:ext cx="7731000" cy="3783240"/>
          </a:xfrm>
          <a:prstGeom prst="rect">
            <a:avLst/>
          </a:prstGeom>
          <a:noFill/>
          <a:ln w="0">
            <a:noFill/>
          </a:ln>
        </p:spPr>
        <p:txBody>
          <a:bodyPr anchor="t">
            <a:normAutofit/>
          </a:bodyPr>
          <a:p>
            <a:pPr marL="228600" indent="-2286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Een pitch is een korte presentatie waarbij je als het ware je product verkoopt. In deze pitch verkopen jullie je reclamecampagne aan de directie. De directie kiest uiteindelijk een campagne uit die het beste voldoet aan de voorwaarden. In dit geval mogen jullie pitchen aan de andere groepen. Zij spelen op dat moment voor directie en beoordelen jullie reclamecampagne. Jullie mogen dit doen aan de hand van een presentatie van ongeveer 5 minuten met een PowerPoint of Prezi presentatie van maximaal 3 slides. Onder het kopje ´beoordeling´ zie je op welke onderdelen jullie beoordeeld worden. Welke campagne gaat de directie kiezen? Het is aan jullie!</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30200" y="550440"/>
            <a:ext cx="7731000" cy="117972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LOGO</a:t>
            </a:r>
            <a:endParaRPr b="0" lang="en-US" sz="2800" spc="-1" strike="noStrike">
              <a:solidFill>
                <a:srgbClr val="262626"/>
              </a:solidFill>
              <a:latin typeface="Gill Sans MT"/>
            </a:endParaRPr>
          </a:p>
        </p:txBody>
      </p:sp>
      <p:sp>
        <p:nvSpPr>
          <p:cNvPr id="216"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Een reclamebureau is vast aan de slag gegaan en heeft een aantal logo´s ontworpen. Jullie als creatieve groep mensen van PR, hebben vast nog veel betere ideeën voor een logo voor de fabriek! Ontwerp zelf een logo en zorg dat deze goed aansluiten op de slogan en het communicatiemiddel dat jullie kiezen. Houd goed de doelgroep die jullie gekozen hebben in gedachten! Welk team ontwerpt het beste logo??</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Kijk op de volgende slide voor voorbeelden van logo´s</a:t>
            </a: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VOORBEELDLOGO´S</a:t>
            </a:r>
            <a:endParaRPr b="0" lang="en-US" sz="2800" spc="-1" strike="noStrike">
              <a:solidFill>
                <a:srgbClr val="262626"/>
              </a:solidFill>
              <a:latin typeface="Gill Sans MT"/>
            </a:endParaRPr>
          </a:p>
        </p:txBody>
      </p:sp>
      <p:pic>
        <p:nvPicPr>
          <p:cNvPr id="218" name="Tijdelijke aanduiding voor inhoud 6" descr=""/>
          <p:cNvPicPr/>
          <p:nvPr/>
        </p:nvPicPr>
        <p:blipFill>
          <a:blip r:embed="rId1"/>
          <a:stretch/>
        </p:blipFill>
        <p:spPr>
          <a:xfrm>
            <a:off x="2763720" y="3236760"/>
            <a:ext cx="1906560" cy="1905120"/>
          </a:xfrm>
          <a:prstGeom prst="rect">
            <a:avLst/>
          </a:prstGeom>
          <a:ln w="0">
            <a:noFill/>
          </a:ln>
        </p:spPr>
      </p:pic>
      <p:pic>
        <p:nvPicPr>
          <p:cNvPr id="219" name="Tijdelijke aanduiding voor inhoud 10" descr=""/>
          <p:cNvPicPr/>
          <p:nvPr/>
        </p:nvPicPr>
        <p:blipFill>
          <a:blip r:embed="rId2"/>
          <a:stretch/>
        </p:blipFill>
        <p:spPr>
          <a:xfrm>
            <a:off x="7521480" y="32367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SLOGAN</a:t>
            </a:r>
            <a:endParaRPr b="0" lang="en-US" sz="2800" spc="-1" strike="noStrike">
              <a:solidFill>
                <a:srgbClr val="262626"/>
              </a:solidFill>
              <a:latin typeface="Gill Sans MT"/>
            </a:endParaRPr>
          </a:p>
        </p:txBody>
      </p:sp>
      <p:sp>
        <p:nvSpPr>
          <p:cNvPr id="221" name=""/>
          <p:cNvSpPr txBox="1"/>
          <p:nvPr/>
        </p:nvSpPr>
        <p:spPr>
          <a:xfrm>
            <a:off x="2230200" y="2638080"/>
            <a:ext cx="7731000" cy="3102120"/>
          </a:xfrm>
          <a:prstGeom prst="rect">
            <a:avLst/>
          </a:prstGeom>
          <a:noFill/>
          <a:ln w="0">
            <a:noFill/>
          </a:ln>
        </p:spPr>
        <p:txBody>
          <a:bodyPr anchor="t">
            <a:normAutofit fontScale="97000"/>
          </a:bodyPr>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262626"/>
                </a:solidFill>
                <a:latin typeface="Calibri"/>
                <a:ea typeface="Calibri"/>
              </a:rPr>
              <a:t>´The age of Paragon Chips´, </a:t>
            </a:r>
            <a:r>
              <a:rPr b="0" i="1" lang="nl-NL" sz="1800" spc="-1" strike="noStrike">
                <a:solidFill>
                  <a:srgbClr val="262626"/>
                </a:solidFill>
                <a:latin typeface="Calibri"/>
                <a:ea typeface="Calibri"/>
              </a:rPr>
              <a:t>	</a:t>
            </a:r>
            <a:r>
              <a:rPr b="0" i="1" lang="nl-NL" sz="1800" spc="-1" strike="noStrike">
                <a:solidFill>
                  <a:srgbClr val="262626"/>
                </a:solidFill>
                <a:latin typeface="Calibri"/>
                <a:ea typeface="Calibri"/>
              </a:rPr>
              <a:t>´Paragon Chips, dé groene innovatie´,          </a:t>
            </a:r>
            <a:endParaRPr b="0" lang="en-US" sz="1800" spc="-1" strike="noStrike">
              <a:solidFill>
                <a:srgbClr val="262626"/>
              </a:solidFill>
              <a:latin typeface="Gill Sans MT"/>
            </a:endParaRPr>
          </a:p>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a:t>
            </a:r>
            <a:r>
              <a:rPr b="0" i="1" lang="en-US" sz="1800" spc="-1" strike="noStrike">
                <a:solidFill>
                  <a:srgbClr val="262626"/>
                </a:solidFill>
                <a:latin typeface="Gill Sans MT"/>
              </a:rPr>
              <a:t>Paragon Chips, quality you can see!´</a:t>
            </a:r>
            <a:endParaRPr b="0" lang="en-US" sz="1800" spc="-1" strike="noStrike">
              <a:solidFill>
                <a:srgbClr val="262626"/>
              </a:solidFill>
              <a:latin typeface="Gill Sans MT"/>
            </a:endParaRPr>
          </a:p>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Dit zijn drie voorbeelden van slogans die de fabriek kan gebruiken in haar campagne, bedacht door het reclamebureau. Je mag hier gebruik van maken wanneer jullie gaan voor optie 3. Maar dat kunnen jullie vast beter! Dan gaan jullie zelf aan de slag om een slogan te bedenken die goed aansluit bij je campagne. Kiezen jullie een van de bovenstaande slogans? Zorg er dan voor dat je logo en communicatiemiddel hier goed op aansluiten. Welke slogan zou de directie kiezen?</a:t>
            </a:r>
            <a:endParaRPr b="0" lang="en-US" sz="1800" spc="-1" strike="noStrike">
              <a:solidFill>
                <a:srgbClr val="262626"/>
              </a:solidFill>
              <a:latin typeface="Gill Sans MT"/>
            </a:endParaRPr>
          </a:p>
          <a:p>
            <a:pPr marL="221400" indent="-2214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COMMUNICATIEMIDDEL</a:t>
            </a:r>
            <a:endParaRPr b="0" lang="en-US" sz="2800" spc="-1" strike="noStrike">
              <a:solidFill>
                <a:srgbClr val="262626"/>
              </a:solidFill>
              <a:latin typeface="Gill Sans MT"/>
            </a:endParaRPr>
          </a:p>
        </p:txBody>
      </p:sp>
      <p:sp>
        <p:nvSpPr>
          <p:cNvPr id="223"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Zoek uit welke communicatiemiddelen er bestaan om reclame te maken en kies er twee uit die het beste bij je doelgroep passen. Denk daarbij aan leeftijd; gebruiken ouderen Sociale Media? Welke kranten lezen bepaalde doelgroepen? Geef in je pitch duidelijk aan waarom jullie voor de communicatiemiddelen hebben gekozen.</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Kijk op deze website voor meer ideeën: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rPr>
              <a:t>https://www.leren.nl/cursus/professionele-vaardigheden/communicatieplan/communicatiemiddelen.html</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BEOORDELING</a:t>
            </a:r>
            <a:endParaRPr b="0" lang="en-US" sz="2800" spc="-1" strike="noStrike">
              <a:solidFill>
                <a:srgbClr val="262626"/>
              </a:solidFill>
              <a:latin typeface="Gill Sans MT"/>
            </a:endParaRPr>
          </a:p>
        </p:txBody>
      </p:sp>
      <p:sp>
        <p:nvSpPr>
          <p:cNvPr id="225"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Bij de presentatie mogen de andere groepen gebruik maken van de volgende rubric. Kijk goed naar deze rubric en zorg ervoor dat alle onderdelen goed in jullie presentatie verwerkt worden.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Jullie beoordelen elkaar dus per onderdeel en geven per onderdeel een cijfer. Het gemiddelde van deze onderdelen is het cijfer dat je als groep aan een andere groep geeft.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Op de volgende slide is de rubric te zien. Gebruik deze ook goed tijdens het ontwerp en voorbereiding op de presentatie. Je weet op die manier waar je aan moet voldoen.</a:t>
            </a: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09:41:46Z</dcterms:created>
  <dc:creator>Susanne</dc:creator>
  <dc:description/>
  <dc:language>en-US</dc:language>
  <cp:lastModifiedBy>Susanne</cp:lastModifiedBy>
  <dcterms:modified xsi:type="dcterms:W3CDTF">2021-05-26T14:17:28Z</dcterms:modified>
  <cp:revision>7</cp:revision>
  <dc:subject/>
  <dc:title>Certificaat Public Relations</dc:title>
</cp:coreProperties>
</file>